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F025-36BB-475C-B757-C175B0AA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489-5E68-4C90-8D3A-97137107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5EE-3273-4EE5-B444-40666F0A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32E1-2D5A-4E8E-B2B8-27A8AD1BE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8B7D-A706-4778-A6B0-0F3B4324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CEA-25C5-4BA1-90A6-E5C6F9B5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585-66CD-468B-AAAE-280255BF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C118-25AE-4D55-9C13-F0C5BF14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DD35-1DD6-4028-BA08-304EF5D79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3AB1-6379-439D-B8A0-F97CF874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B908-60A7-44B7-8A14-E4A1B5A5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8355-327E-4609-87D5-25921A27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965A-0154-426C-BBBC-C99A3B5F5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csv.kintera.org/wfa2006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xilinx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nbc11.com/index.html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alkforaids.org/" TargetMode="External"/><Relationship Id="rId2" Type="http://schemas.openxmlformats.org/officeDocument/2006/relationships/hyperlink" Target="http://www.walkforaids.org/" TargetMode="External"/><Relationship Id="rId3" Type="http://schemas.openxmlformats.org/officeDocument/2006/relationships/hyperlink" Target="http://www.walkforaids.org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 Walk in San Jose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62520" y="4419360"/>
            <a:ext cx="4572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ast You W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CLICK HERE TO REGISTER NOW!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288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6835680" cy="71056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76560" y="1904760"/>
            <a:ext cx="4267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Xilinx Team Page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9/27/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933560"/>
            <a:ext cx="8058240" cy="8867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19920" y="4038480"/>
            <a:ext cx="3124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Email Confi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20 Minimum Contribution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worry about this. The goal was to raise fund and increase awareness of AIDS. At least you achieved the latter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km Walk to raise fund ($$$) for local HIV/AIDS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on: Increase community awareness of HIV/A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fundraising event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ta Clara County (= Most of Silicon Vall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pertino, San Jose, Sunnyvale, Santa Clara, Mountain View, Palo Alto, Los Altos, Milpitas, Saratoga, Gilroy, Campbell, Los Gatos, Morgan Hill, Los Altos Hills, Monte Se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Provid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DS Coalition Silicon Vall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000+ Walkers from all over the Silicon Valley and the Bay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59436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nd W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day, October 15th, 200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am – 11am (or 8am to 12p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y Meadow, San Jose, CA. Near the Aids Memorial Gro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team2tp.JPG - 12544 Bytes"/>
          <p:cNvPicPr/>
          <p:nvPr/>
        </p:nvPicPr>
        <p:blipFill>
          <a:blip r:embed="rId1"/>
          <a:stretch/>
        </p:blipFill>
        <p:spPr>
          <a:xfrm>
            <a:off x="990720" y="40384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vol1.JPG - 95935 Bytes"/>
          <p:cNvPicPr/>
          <p:nvPr/>
        </p:nvPicPr>
        <p:blipFill>
          <a:blip r:embed="rId2"/>
          <a:stretch/>
        </p:blipFill>
        <p:spPr>
          <a:xfrm>
            <a:off x="4876920" y="3962520"/>
            <a:ext cx="281916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686800" cy="6853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overy Meadow, San Jose, 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25146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 km (6.2m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the Money Goes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IDS Emergency Fu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IDS Legal Servi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CSV Policy Projec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sian Americans for Community Invlov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ill Wilson Center HIV/AIDS Youth Projec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illy DeFrank LGBT Cent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ealth Connections, AIDS Servi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ealth Education &amp; Training Center - El Pueblo Against AI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oLatino of San J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Paying Big $$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1585440"/>
            <a:ext cx="5943600" cy="35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993300"/>
                </a:solidFill>
                <a:latin typeface="Arial"/>
              </a:rPr>
              <a:t>Red Ribbon Sponsor: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xilinx.com 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993300"/>
                </a:solidFill>
                <a:latin typeface="Arial"/>
              </a:rPr>
              <a:t>Media Spons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nb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Our Red Ribbon Sponsor Xilin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28960" y="1828800"/>
            <a:ext cx="2571840" cy="68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NBC1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43440" y="3962520"/>
            <a:ext cx="23050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at</a:t>
            </a:r>
            <a:br>
              <a:rPr sz="3200"/>
            </a:b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walkforaids.org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join the Xilinx te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up in Discovery Meadow, San Jose on October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152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 Walk Web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19320" y="609480"/>
            <a:ext cx="678168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6:25:18Z</dcterms:created>
  <dc:creator>TITAFKAA</dc:creator>
  <dc:description/>
  <dc:language>en-US</dc:language>
  <cp:lastModifiedBy>TITAFKAA</cp:lastModifiedBy>
  <dcterms:modified xsi:type="dcterms:W3CDTF">2006-09-28T19:45:01Z</dcterms:modified>
  <cp:revision>26</cp:revision>
  <dc:subject/>
  <dc:title>AIDS Walk in San Jose 2006</dc:title>
</cp:coreProperties>
</file>