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4.xlsx" ContentType="application/vnd.openxmlformats-officedocument.spreadsheetml.sheet"/>
  <Override PartName="/ppt/embeddings/oleObject1.docx" ContentType="application/vnd.openxmlformats-officedocument.wordprocessingml.documen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33.png" ContentType="image/png"/>
  <Override PartName="/ppt/media/image7.wmf" ContentType="image/x-wmf"/>
  <Override PartName="/ppt/media/image12.wmf" ContentType="image/x-wmf"/>
  <Override PartName="/ppt/media/image9.wmf" ContentType="image/x-wmf"/>
  <Override PartName="/ppt/media/image13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34191-6C63-496C-8F40-1D37644C7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1988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1286-52F3-450B-A79F-D304AE02C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FEAD-ACBA-4771-A0AD-742C03FA8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1F44-3168-4283-BE6A-6A5C554A3C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343080"/>
            <a:ext cx="822960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53B3-7A90-43A1-B706-D267E1129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71988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07964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719880"/>
            <a:ext cx="264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F363-92A1-467F-B5C1-D9C4285C6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5BE21-75DB-4287-AFC3-3CE826B4F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B686-7FB8-42D6-9252-894D6C3ABE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343080"/>
            <a:ext cx="822960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A4B03-C07F-4A48-9FA1-77B0489D6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7C90-88F2-40A6-AB39-97E4080B2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1988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E38EA-057D-49BB-9123-2BD252BAE4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9640"/>
            <a:ext cx="40158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19880"/>
            <a:ext cx="8229600" cy="24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E5A61-CB10-40A5-8441-1E4399961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5640" y="6489360"/>
            <a:ext cx="6870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40 Summer 2006: Lecture 5                          Instructor: Octavian Flores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45320" y="6400800"/>
            <a:ext cx="106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FC32-7EB2-4369-A1BE-8A6D04AC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12920" y="63198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7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3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3.png"/><Relationship Id="rId16" Type="http://schemas.openxmlformats.org/officeDocument/2006/relationships/image" Target="../media/image33.png"/><Relationship Id="rId17" Type="http://schemas.openxmlformats.org/officeDocument/2006/relationships/image" Target="../media/image33.png"/><Relationship Id="rId18" Type="http://schemas.openxmlformats.org/officeDocument/2006/relationships/image" Target="../media/image33.png"/><Relationship Id="rId19" Type="http://schemas.openxmlformats.org/officeDocument/2006/relationships/image" Target="../media/image33.png"/><Relationship Id="rId20" Type="http://schemas.openxmlformats.org/officeDocument/2006/relationships/image" Target="../media/image33.png"/><Relationship Id="rId21" Type="http://schemas.openxmlformats.org/officeDocument/2006/relationships/image" Target="../media/image33.png"/><Relationship Id="rId22" Type="http://schemas.openxmlformats.org/officeDocument/2006/relationships/image" Target="../media/image33.png"/><Relationship Id="rId23" Type="http://schemas.openxmlformats.org/officeDocument/2006/relationships/image" Target="../media/image33.png"/><Relationship Id="rId24" Type="http://schemas.openxmlformats.org/officeDocument/2006/relationships/image" Target="../media/image33.png"/><Relationship Id="rId25" Type="http://schemas.openxmlformats.org/officeDocument/2006/relationships/image" Target="../media/image33.png"/><Relationship Id="rId26" Type="http://schemas.openxmlformats.org/officeDocument/2006/relationships/image" Target="../media/image33.png"/><Relationship Id="rId27" Type="http://schemas.openxmlformats.org/officeDocument/2006/relationships/image" Target="../media/image33.png"/><Relationship Id="rId28" Type="http://schemas.openxmlformats.org/officeDocument/2006/relationships/image" Target="../media/image33.png"/><Relationship Id="rId29" Type="http://schemas.openxmlformats.org/officeDocument/2006/relationships/image" Target="../media/image33.png"/><Relationship Id="rId30" Type="http://schemas.openxmlformats.org/officeDocument/2006/relationships/image" Target="../media/image33.png"/><Relationship Id="rId31" Type="http://schemas.openxmlformats.org/officeDocument/2006/relationships/image" Target="../media/image33.png"/><Relationship Id="rId32" Type="http://schemas.openxmlformats.org/officeDocument/2006/relationships/image" Target="../media/image33.png"/><Relationship Id="rId33" Type="http://schemas.openxmlformats.org/officeDocument/2006/relationships/image" Target="../media/image33.png"/><Relationship Id="rId3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nnouncemen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ecture 3 updated on we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lide 29 reversed dependent and independent sour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 to PS1 on web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2 due next Tuesday at 6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term 1 Tuesday June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:00-1:30pm. Location TB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D05C-16DB-4F97-BA4F-1E98914274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2nd Order Circui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ircuit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ingle capacitor, a single indu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bitrary number of sour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rbitrary number of resis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ircuit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der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voltage or current in such a circuit is the solution to a 2nd order differential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080B-A16C-4516-9E14-731F6C542B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A 2nd Order RLC Circuit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565360" y="1117440"/>
            <a:ext cx="3657600" cy="2595240"/>
            <a:chOff x="2565360" y="1117440"/>
            <a:chExt cx="3657600" cy="2595240"/>
          </a:xfrm>
        </p:grpSpPr>
        <p:sp>
          <p:nvSpPr>
            <p:cNvPr id="233" name=""/>
            <p:cNvSpPr/>
            <p:nvPr/>
          </p:nvSpPr>
          <p:spPr>
            <a:xfrm>
              <a:off x="4622760" y="1803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22760" y="149832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48" y="96"/>
                  </a:lnTo>
                  <a:lnTo>
                    <a:pt x="96" y="0"/>
                  </a:lnTo>
                  <a:lnTo>
                    <a:pt x="192" y="192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28" y="96"/>
                  </a:lnTo>
                  <a:lnTo>
                    <a:pt x="57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37160" y="165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2400" y="210816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089600" y="16509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89600" y="1650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4680" y="203184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089600" y="30225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84680" y="26413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94360" y="165096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994360" y="25653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99080" y="2336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565360" y="233676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89600" y="3479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5765760" y="2489040"/>
              <a:ext cx="457200" cy="228240"/>
              <a:chOff x="5765760" y="2489040"/>
              <a:chExt cx="457200" cy="228240"/>
            </a:xfrm>
          </p:grpSpPr>
          <p:sp>
            <p:nvSpPr>
              <p:cNvPr id="248" name=""/>
              <p:cNvSpPr/>
              <p:nvPr/>
            </p:nvSpPr>
            <p:spPr>
              <a:xfrm>
                <a:off x="5765760" y="2489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766120" y="2565000"/>
                <a:ext cx="45648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765760" y="2565000"/>
                <a:ext cx="45648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4013280" y="111744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471560" y="3259800"/>
              <a:ext cx="1138680" cy="452880"/>
              <a:chOff x="4471560" y="3259800"/>
              <a:chExt cx="1138680" cy="4528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5229720" y="3259800"/>
                <a:ext cx="380520" cy="448200"/>
                <a:chOff x="5229720" y="3259800"/>
                <a:chExt cx="380520" cy="448200"/>
              </a:xfrm>
            </p:grpSpPr>
            <p:sp>
              <p:nvSpPr>
                <p:cNvPr id="254" name=""/>
                <p:cNvSpPr/>
                <p:nvPr/>
              </p:nvSpPr>
              <p:spPr>
                <a:xfrm rot="5400000">
                  <a:off x="5292000" y="3387240"/>
                  <a:ext cx="44568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rot="5400000">
                  <a:off x="5101560" y="3389400"/>
                  <a:ext cx="4464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4851000" y="3264480"/>
                <a:ext cx="378360" cy="448200"/>
                <a:chOff x="4851000" y="3264480"/>
                <a:chExt cx="378360" cy="448200"/>
              </a:xfrm>
            </p:grpSpPr>
            <p:sp>
              <p:nvSpPr>
                <p:cNvPr id="257" name=""/>
                <p:cNvSpPr/>
                <p:nvPr/>
              </p:nvSpPr>
              <p:spPr>
                <a:xfrm rot="5400000">
                  <a:off x="4911840" y="339264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5400000">
                  <a:off x="4722480" y="339480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4471560" y="3264480"/>
                <a:ext cx="378360" cy="448200"/>
                <a:chOff x="4471560" y="3264480"/>
                <a:chExt cx="378360" cy="448200"/>
              </a:xfrm>
            </p:grpSpPr>
            <p:sp>
              <p:nvSpPr>
                <p:cNvPr id="260" name=""/>
                <p:cNvSpPr/>
                <p:nvPr/>
              </p:nvSpPr>
              <p:spPr>
                <a:xfrm rot="5400000">
                  <a:off x="4532400" y="339264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5400000">
                  <a:off x="4343040" y="339480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2" name=""/>
            <p:cNvSpPr/>
            <p:nvPr/>
          </p:nvSpPr>
          <p:spPr>
            <a:xfrm>
              <a:off x="5613480" y="3479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22760" y="2946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18200" y="1650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3808440"/>
            <a:ext cx="82296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ndpass filter such as the IF amp for the AM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wpass filter with a sharper cutoff than can be obtained with an RC circ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5A8E-F924-447B-8E78-35663CCF12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Differential Equa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12920" y="3328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L around the lo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 + 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 + 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 = 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34040" y="78408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64080" y="1144440"/>
            <a:ext cx="4106520" cy="2839320"/>
            <a:chOff x="4564080" y="1144440"/>
            <a:chExt cx="4106520" cy="2839320"/>
          </a:xfrm>
        </p:grpSpPr>
        <p:sp>
          <p:nvSpPr>
            <p:cNvPr id="270" name=""/>
            <p:cNvSpPr/>
            <p:nvPr/>
          </p:nvSpPr>
          <p:spPr>
            <a:xfrm>
              <a:off x="6381720" y="1824120"/>
              <a:ext cx="8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81720" y="1552320"/>
              <a:ext cx="807840" cy="27144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48" y="96"/>
                  </a:lnTo>
                  <a:lnTo>
                    <a:pt x="96" y="0"/>
                  </a:lnTo>
                  <a:lnTo>
                    <a:pt x="192" y="192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28" y="96"/>
                  </a:lnTo>
                  <a:lnTo>
                    <a:pt x="57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9560" y="168804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06560" y="2095920"/>
              <a:ext cx="807840" cy="81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910480" y="16876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910480" y="1688040"/>
              <a:ext cx="47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42640" y="202788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910480" y="2911680"/>
              <a:ext cx="0" cy="4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42640" y="257220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93480" y="1688040"/>
              <a:ext cx="0" cy="74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93480" y="2504160"/>
              <a:ext cx="0" cy="81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47960" y="2300040"/>
              <a:ext cx="9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64080" y="2300040"/>
              <a:ext cx="94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10480" y="3319920"/>
              <a:ext cx="3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7391520" y="2436120"/>
              <a:ext cx="403920" cy="203400"/>
              <a:chOff x="7391520" y="2436120"/>
              <a:chExt cx="403920" cy="203400"/>
            </a:xfrm>
          </p:grpSpPr>
          <p:sp>
            <p:nvSpPr>
              <p:cNvPr id="285" name=""/>
              <p:cNvSpPr/>
              <p:nvPr/>
            </p:nvSpPr>
            <p:spPr>
              <a:xfrm>
                <a:off x="7391520" y="2436120"/>
                <a:ext cx="40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91880" y="2503800"/>
                <a:ext cx="40320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91520" y="2503800"/>
                <a:ext cx="403200" cy="135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7660800" y="18241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60800" y="27079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62760" y="2232000"/>
              <a:ext cx="80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12440" y="12121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28016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81720" y="1144440"/>
              <a:ext cx="80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247440" y="3123720"/>
              <a:ext cx="1006200" cy="403200"/>
              <a:chOff x="6247440" y="3123720"/>
              <a:chExt cx="1006200" cy="4032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917400" y="3123720"/>
                <a:ext cx="336240" cy="399240"/>
                <a:chOff x="6917400" y="3123720"/>
                <a:chExt cx="336240" cy="399240"/>
              </a:xfrm>
            </p:grpSpPr>
            <p:sp>
              <p:nvSpPr>
                <p:cNvPr id="296" name=""/>
                <p:cNvSpPr/>
                <p:nvPr/>
              </p:nvSpPr>
              <p:spPr>
                <a:xfrm rot="5400000">
                  <a:off x="6970680" y="3238200"/>
                  <a:ext cx="39744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5400000">
                  <a:off x="6802560" y="3240000"/>
                  <a:ext cx="397440" cy="168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582600" y="3127680"/>
                <a:ext cx="334440" cy="399240"/>
                <a:chOff x="6582600" y="3127680"/>
                <a:chExt cx="334440" cy="399240"/>
              </a:xfrm>
            </p:grpSpPr>
            <p:sp>
              <p:nvSpPr>
                <p:cNvPr id="299" name=""/>
                <p:cNvSpPr/>
                <p:nvPr/>
              </p:nvSpPr>
              <p:spPr>
                <a:xfrm rot="5400000">
                  <a:off x="6634440" y="3242520"/>
                  <a:ext cx="3974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5400000">
                  <a:off x="6467400" y="3244320"/>
                  <a:ext cx="3974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247440" y="3127680"/>
                <a:ext cx="334440" cy="399240"/>
                <a:chOff x="6247440" y="3127680"/>
                <a:chExt cx="334440" cy="399240"/>
              </a:xfrm>
            </p:grpSpPr>
            <p:sp>
              <p:nvSpPr>
                <p:cNvPr id="302" name=""/>
                <p:cNvSpPr/>
                <p:nvPr/>
              </p:nvSpPr>
              <p:spPr>
                <a:xfrm rot="5400000">
                  <a:off x="6299280" y="3242520"/>
                  <a:ext cx="3974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5400000">
                  <a:off x="6132240" y="3244320"/>
                  <a:ext cx="397440" cy="167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6381720" y="3524040"/>
              <a:ext cx="80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56880" y="3319920"/>
              <a:ext cx="3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987600" y="291348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10480" y="2913480"/>
              <a:ext cx="53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81720" y="2776320"/>
              <a:ext cx="807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82920" y="1212120"/>
              <a:ext cx="115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2225520" y="4524480"/>
          <a:ext cx="4550040" cy="98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5520" y="4524480"/>
                    <a:ext cx="455004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2127240" y="5429160"/>
          <a:ext cx="4821120" cy="9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7240" y="5429160"/>
                    <a:ext cx="482112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96307-21B2-4C4A-ADBB-1BF4E84449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Differential Equa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tage and current in a second order circuit is the solution to a differential equation of the following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articular solution (forced response)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complementary solution (natural respon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633680" y="2608200"/>
          <a:ext cx="457020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2608200"/>
                    <a:ext cx="4570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1711440" y="3648240"/>
          <a:ext cx="255888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11440" y="3648240"/>
                    <a:ext cx="255888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05CC-6CBF-4F98-A8BE-63B2F054E4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Particular Solu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ular solu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weighted sum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ts first and second deriv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stant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nusoidal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nusoi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4ACA-E18D-40E8-8E00-6AA7B72AA6E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Complementary Solu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24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olution has the following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stant determined by initial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nstant determined by the coefficients of the differential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3359160" y="1481040"/>
          <a:ext cx="204156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9160" y="1481040"/>
                    <a:ext cx="204156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1941480" y="3548160"/>
          <a:ext cx="433404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1480" y="3548160"/>
                    <a:ext cx="433404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40040" y="4599000"/>
          <a:ext cx="421632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4599000"/>
                    <a:ext cx="4216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306520" y="5460840"/>
          <a:ext cx="2662200" cy="58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6520" y="5460840"/>
                    <a:ext cx="26622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CCAF-A511-4386-865A-287B5825CE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haracteristic Equa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the complementary solution, we need to solve the characteristic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racteristic equation has two roots-call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670120" y="2084400"/>
          <a:ext cx="2990880" cy="117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0120" y="2084400"/>
                    <a:ext cx="29908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2355840" y="4299120"/>
          <a:ext cx="324792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5840" y="4299120"/>
                    <a:ext cx="32479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2394000" y="5002200"/>
          <a:ext cx="3352680" cy="67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94000" y="5002200"/>
                    <a:ext cx="33526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2476440" y="5705640"/>
          <a:ext cx="3198960" cy="64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76440" y="5705640"/>
                    <a:ext cx="3198960" cy="64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D6D1-B67E-41C6-AADD-3F7614CC1F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Damping Ratio and Natural Frequency</a:t>
            </a:r>
            <a:endParaRPr b="1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1720"/>
            <a:ext cx="822960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mping ratio determines what type of solution we will 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ly decreasing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entially decreasing sinusoid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lt;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al frequency i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determines how fast sinusoids wig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914400" y="1185840"/>
          <a:ext cx="1081080" cy="8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85840"/>
                    <a:ext cx="1081080" cy="8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3392640" y="1023840"/>
          <a:ext cx="344772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92640" y="1023840"/>
                    <a:ext cx="34477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3441600" y="1846440"/>
          <a:ext cx="3434040" cy="68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1600" y="1846440"/>
                    <a:ext cx="34340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511560" y="192888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mp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6D57-C1E1-46BD-B326-3539312873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verdamped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: Real Unequal Roo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not equ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655560" y="1633680"/>
                <a:ext cx="75168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ς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ς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e>
                        </m:d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54" name=""/>
          <p:cNvGraphicFramePr/>
          <p:nvPr/>
        </p:nvGraphicFramePr>
        <p:xfrm>
          <a:off x="349200" y="2735280"/>
          <a:ext cx="4397400" cy="276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735280"/>
                    <a:ext cx="43974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170240" y="2717640"/>
          <a:ext cx="4397400" cy="276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0240" y="2717640"/>
                    <a:ext cx="4397400" cy="27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6652F-0DA2-4B97-95BE-B9D3757E15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nderdamped: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Complex Roo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the following consta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469880" y="2682720"/>
          <a:ext cx="5013360" cy="5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2682720"/>
                    <a:ext cx="5013360" cy="5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1666800" y="2108160"/>
          <a:ext cx="12160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0" y="2108160"/>
                    <a:ext cx="12160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3448080" y="2044800"/>
          <a:ext cx="23162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8080" y="2044800"/>
                    <a:ext cx="23162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1417680" y="3032280"/>
          <a:ext cx="4627440" cy="382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17680" y="3032280"/>
                    <a:ext cx="4627440" cy="38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93765-AA6B-4626-9B17-E4B4D2BA42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ors/Indu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/current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der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L / RC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ady State / Transient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/ Step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CAA6-F01A-46B5-8EF9-93D781D79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ritically damped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: Real Equal Roo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46000" y="1422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q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755720" y="2185920"/>
          <a:ext cx="477216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2185920"/>
                    <a:ext cx="477216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8939-130C-4D93-984F-3A49E947A7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example, what a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952800" y="2260440"/>
                <a:ext cx="49370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75" name=""/>
          <p:cNvGraphicFramePr/>
          <p:nvPr/>
        </p:nvGraphicFramePr>
        <p:xfrm>
          <a:off x="3922560" y="3351240"/>
          <a:ext cx="4619880" cy="119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2560" y="3351240"/>
                    <a:ext cx="461988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"/>
          <p:cNvGraphicFramePr/>
          <p:nvPr/>
        </p:nvGraphicFramePr>
        <p:xfrm>
          <a:off x="3841920" y="4275000"/>
          <a:ext cx="4628880" cy="85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920" y="4275000"/>
                    <a:ext cx="462888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9" name=""/>
          <p:cNvGrpSpPr/>
          <p:nvPr/>
        </p:nvGrpSpPr>
        <p:grpSpPr>
          <a:xfrm>
            <a:off x="752400" y="2217600"/>
            <a:ext cx="2590560" cy="2595240"/>
            <a:chOff x="752400" y="2217600"/>
            <a:chExt cx="2590560" cy="2595240"/>
          </a:xfrm>
        </p:grpSpPr>
        <p:sp>
          <p:nvSpPr>
            <p:cNvPr id="380" name=""/>
            <p:cNvSpPr/>
            <p:nvPr/>
          </p:nvSpPr>
          <p:spPr>
            <a:xfrm>
              <a:off x="1742760" y="2903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42760" y="25984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48" y="96"/>
                  </a:lnTo>
                  <a:lnTo>
                    <a:pt x="96" y="0"/>
                  </a:lnTo>
                  <a:lnTo>
                    <a:pt x="192" y="192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28" y="96"/>
                  </a:lnTo>
                  <a:lnTo>
                    <a:pt x="57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57160" y="275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2400" y="32083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1209600" y="275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09600" y="275112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04680" y="3132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1209600" y="4122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4680" y="3741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114360" y="2751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114360" y="36655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19080" y="3436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69p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09600" y="4579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885760" y="3589200"/>
              <a:ext cx="457200" cy="228240"/>
              <a:chOff x="2885760" y="3589200"/>
              <a:chExt cx="457200" cy="228240"/>
            </a:xfrm>
          </p:grpSpPr>
          <p:sp>
            <p:nvSpPr>
              <p:cNvPr id="394" name=""/>
              <p:cNvSpPr/>
              <p:nvPr/>
            </p:nvSpPr>
            <p:spPr>
              <a:xfrm>
                <a:off x="2885760" y="358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886120" y="3665160"/>
                <a:ext cx="45648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2885760" y="3665160"/>
                <a:ext cx="45648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1133280" y="22176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591560" y="4359960"/>
              <a:ext cx="1138680" cy="452880"/>
              <a:chOff x="1591560" y="4359960"/>
              <a:chExt cx="1138680" cy="45288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2349720" y="4359960"/>
                <a:ext cx="380520" cy="448200"/>
                <a:chOff x="2349720" y="4359960"/>
                <a:chExt cx="380520" cy="448200"/>
              </a:xfrm>
            </p:grpSpPr>
            <p:sp>
              <p:nvSpPr>
                <p:cNvPr id="400" name=""/>
                <p:cNvSpPr/>
                <p:nvPr/>
              </p:nvSpPr>
              <p:spPr>
                <a:xfrm rot="5400000">
                  <a:off x="2412000" y="4487400"/>
                  <a:ext cx="44568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rot="5400000">
                  <a:off x="2221560" y="4489560"/>
                  <a:ext cx="4464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971000" y="4364640"/>
                <a:ext cx="378360" cy="448200"/>
                <a:chOff x="1971000" y="4364640"/>
                <a:chExt cx="378360" cy="448200"/>
              </a:xfrm>
            </p:grpSpPr>
            <p:sp>
              <p:nvSpPr>
                <p:cNvPr id="403" name=""/>
                <p:cNvSpPr/>
                <p:nvPr/>
              </p:nvSpPr>
              <p:spPr>
                <a:xfrm rot="5400000">
                  <a:off x="2031840" y="449280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rot="5400000">
                  <a:off x="1842480" y="449496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1591560" y="4364640"/>
                <a:ext cx="378360" cy="448200"/>
                <a:chOff x="1591560" y="4364640"/>
                <a:chExt cx="378360" cy="448200"/>
              </a:xfrm>
            </p:grpSpPr>
            <p:sp>
              <p:nvSpPr>
                <p:cNvPr id="406" name=""/>
                <p:cNvSpPr/>
                <p:nvPr/>
              </p:nvSpPr>
              <p:spPr>
                <a:xfrm rot="5400000">
                  <a:off x="1652400" y="449280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rot="5400000">
                  <a:off x="1463040" y="449496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2733480" y="4579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66800" y="4046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8200" y="275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7B639-11A0-413E-937A-841CF14961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system over damped, under damped, or critically damp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the curren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2095560" y="3597120"/>
          <a:ext cx="3628800" cy="30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3597120"/>
                    <a:ext cx="362880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CA4C5-EDA7-4A3B-9A5D-8B59619C51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lightly Different Exampl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resistor to 1k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2117880"/>
            <a:ext cx="3657600" cy="2594160"/>
            <a:chOff x="533520" y="2117880"/>
            <a:chExt cx="3657600" cy="2594160"/>
          </a:xfrm>
        </p:grpSpPr>
        <p:sp>
          <p:nvSpPr>
            <p:cNvPr id="418" name=""/>
            <p:cNvSpPr/>
            <p:nvPr/>
          </p:nvSpPr>
          <p:spPr>
            <a:xfrm>
              <a:off x="2590920" y="2803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k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90920" y="2498400"/>
              <a:ext cx="914400" cy="30456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48" y="96"/>
                  </a:lnTo>
                  <a:lnTo>
                    <a:pt x="96" y="0"/>
                  </a:lnTo>
                  <a:lnTo>
                    <a:pt x="192" y="192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28" y="96"/>
                  </a:lnTo>
                  <a:lnTo>
                    <a:pt x="57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05320" y="2651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560" y="3108240"/>
              <a:ext cx="914400" cy="914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2057760" y="26506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57760" y="265104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52840" y="3031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2057760" y="402228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52840" y="3641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962520" y="2651040"/>
              <a:ext cx="0" cy="83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962520" y="3565440"/>
              <a:ext cx="0" cy="9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7240" y="333684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69p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3520" y="333684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760" y="447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3733920" y="3489120"/>
              <a:ext cx="457200" cy="227160"/>
              <a:chOff x="3733920" y="3489120"/>
              <a:chExt cx="457200" cy="227160"/>
            </a:xfrm>
          </p:grpSpPr>
          <p:sp>
            <p:nvSpPr>
              <p:cNvPr id="433" name=""/>
              <p:cNvSpPr/>
              <p:nvPr/>
            </p:nvSpPr>
            <p:spPr>
              <a:xfrm>
                <a:off x="3733920" y="348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734280" y="356472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3733920" y="3564720"/>
                <a:ext cx="45648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981440" y="21178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2439720" y="4260240"/>
              <a:ext cx="1138680" cy="451800"/>
              <a:chOff x="2439720" y="4260240"/>
              <a:chExt cx="1138680" cy="4518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3197880" y="4260240"/>
                <a:ext cx="380520" cy="447480"/>
                <a:chOff x="3197880" y="4260240"/>
                <a:chExt cx="380520" cy="447480"/>
              </a:xfrm>
            </p:grpSpPr>
            <p:sp>
              <p:nvSpPr>
                <p:cNvPr id="439" name=""/>
                <p:cNvSpPr/>
                <p:nvPr/>
              </p:nvSpPr>
              <p:spPr>
                <a:xfrm rot="5400000">
                  <a:off x="3260520" y="4387320"/>
                  <a:ext cx="44496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5400000">
                  <a:off x="3070080" y="4389480"/>
                  <a:ext cx="44568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2819160" y="4264560"/>
                <a:ext cx="378360" cy="447480"/>
                <a:chOff x="2819160" y="4264560"/>
                <a:chExt cx="378360" cy="447480"/>
              </a:xfrm>
            </p:grpSpPr>
            <p:sp>
              <p:nvSpPr>
                <p:cNvPr id="442" name=""/>
                <p:cNvSpPr/>
                <p:nvPr/>
              </p:nvSpPr>
              <p:spPr>
                <a:xfrm rot="5400000">
                  <a:off x="2880360" y="4392360"/>
                  <a:ext cx="44496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rot="5400000">
                  <a:off x="2691000" y="439452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2439720" y="4264560"/>
                <a:ext cx="378360" cy="447480"/>
                <a:chOff x="2439720" y="4264560"/>
                <a:chExt cx="378360" cy="447480"/>
              </a:xfrm>
            </p:grpSpPr>
            <p:sp>
              <p:nvSpPr>
                <p:cNvPr id="445" name=""/>
                <p:cNvSpPr/>
                <p:nvPr/>
              </p:nvSpPr>
              <p:spPr>
                <a:xfrm rot="5400000">
                  <a:off x="2500920" y="4392360"/>
                  <a:ext cx="44496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 rot="5400000">
                  <a:off x="2311560" y="439452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581640" y="447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14960" y="3946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9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286360" y="2651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1573200" y="5072040"/>
            <a:ext cx="4572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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5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5105520" y="2406600"/>
          <a:ext cx="4038480" cy="253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406600"/>
                    <a:ext cx="4038480" cy="25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E023-F73B-49D0-ABA9-DB319FFA690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133720" y="368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Types of Circuit Ex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98560" y="232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0" y="1219320"/>
            <a:ext cx="3969360" cy="1523880"/>
            <a:chOff x="0" y="1219320"/>
            <a:chExt cx="3969360" cy="1523880"/>
          </a:xfrm>
        </p:grpSpPr>
        <p:grpSp>
          <p:nvGrpSpPr>
            <p:cNvPr id="456" name=""/>
            <p:cNvGrpSpPr/>
            <p:nvPr/>
          </p:nvGrpSpPr>
          <p:grpSpPr>
            <a:xfrm>
              <a:off x="0" y="1565640"/>
              <a:ext cx="1164240" cy="899640"/>
              <a:chOff x="0" y="1565640"/>
              <a:chExt cx="1164240" cy="899640"/>
            </a:xfrm>
          </p:grpSpPr>
          <p:sp>
            <p:nvSpPr>
              <p:cNvPr id="457" name=""/>
              <p:cNvSpPr/>
              <p:nvPr/>
            </p:nvSpPr>
            <p:spPr>
              <a:xfrm>
                <a:off x="321840" y="2240640"/>
                <a:ext cx="561240" cy="262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0" y="1565640"/>
                <a:ext cx="1164240" cy="899640"/>
                <a:chOff x="0" y="1565640"/>
                <a:chExt cx="1164240" cy="89964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21840" y="1965600"/>
                  <a:ext cx="560880" cy="248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0" y="1565640"/>
                  <a:ext cx="1164240" cy="899640"/>
                  <a:chOff x="0" y="1565640"/>
                  <a:chExt cx="1164240" cy="89964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600840" y="1565640"/>
                    <a:ext cx="39240" cy="25128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0" y="1816920"/>
                    <a:ext cx="1164240" cy="2484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0" y="2091600"/>
                    <a:ext cx="1164240" cy="2448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00840" y="2240640"/>
                    <a:ext cx="39240" cy="22464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"/>
                <p:cNvSpPr/>
                <p:nvPr/>
              </p:nvSpPr>
              <p:spPr>
                <a:xfrm>
                  <a:off x="882720" y="1641600"/>
                  <a:ext cx="39240" cy="9900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803520" y="1691280"/>
                <a:ext cx="159480" cy="248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1729800" y="1219320"/>
              <a:ext cx="216252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790640" y="1357920"/>
              <a:ext cx="21787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near Time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varia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48720" y="156564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8720" y="2466000"/>
              <a:ext cx="108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57200" y="29718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eady-State 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572000" y="1134360"/>
            <a:ext cx="4114800" cy="1761120"/>
            <a:chOff x="4572000" y="1134360"/>
            <a:chExt cx="4114800" cy="1761120"/>
          </a:xfrm>
        </p:grpSpPr>
        <p:sp>
          <p:nvSpPr>
            <p:cNvPr id="473" name=""/>
            <p:cNvSpPr/>
            <p:nvPr/>
          </p:nvSpPr>
          <p:spPr>
            <a:xfrm>
              <a:off x="4962240" y="2361960"/>
              <a:ext cx="594000" cy="288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11480" y="2041560"/>
              <a:ext cx="593640" cy="270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41600" y="1600200"/>
              <a:ext cx="43200" cy="276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2000" y="1876320"/>
              <a:ext cx="1231560" cy="2844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2000" y="2179440"/>
              <a:ext cx="1231560" cy="27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67160" y="2361960"/>
              <a:ext cx="42840" cy="2476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6400800" y="1218960"/>
              <a:ext cx="2286000" cy="1676520"/>
              <a:chOff x="6400800" y="1218960"/>
              <a:chExt cx="2286000" cy="1676520"/>
            </a:xfrm>
          </p:grpSpPr>
          <p:sp>
            <p:nvSpPr>
              <p:cNvPr id="480" name=""/>
              <p:cNvSpPr/>
              <p:nvPr/>
            </p:nvSpPr>
            <p:spPr>
              <a:xfrm>
                <a:off x="6400800" y="1218960"/>
                <a:ext cx="2286000" cy="167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64520" y="1371600"/>
                <a:ext cx="21787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Linear Time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nvaria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ircui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5292720" y="259056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5257800" y="1447560"/>
              <a:ext cx="445680" cy="206280"/>
              <a:chOff x="5257800" y="1447560"/>
              <a:chExt cx="445680" cy="206280"/>
            </a:xfrm>
          </p:grpSpPr>
          <p:sp>
            <p:nvSpPr>
              <p:cNvPr id="484" name=""/>
              <p:cNvSpPr/>
              <p:nvPr/>
            </p:nvSpPr>
            <p:spPr>
              <a:xfrm>
                <a:off x="5452920" y="1447560"/>
                <a:ext cx="250560" cy="206280"/>
              </a:xfrm>
              <a:custGeom>
                <a:avLst/>
                <a:gdLst/>
                <a:ahLst/>
                <a:rect l="l" t="t" r="r" b="b"/>
                <a:pathLst>
                  <a:path w="145" h="129">
                    <a:moveTo>
                      <a:pt x="129" y="64"/>
                    </a:moveTo>
                    <a:lnTo>
                      <a:pt x="113" y="16"/>
                    </a:lnTo>
                    <a:lnTo>
                      <a:pt x="113" y="32"/>
                    </a:lnTo>
                    <a:lnTo>
                      <a:pt x="113" y="3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16" y="3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32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45" y="64"/>
                    </a:lnTo>
                    <a:lnTo>
                      <a:pt x="145" y="64"/>
                    </a:lnTo>
                    <a:lnTo>
                      <a:pt x="129" y="97"/>
                    </a:lnTo>
                    <a:lnTo>
                      <a:pt x="129" y="97"/>
                    </a:lnTo>
                    <a:lnTo>
                      <a:pt x="113" y="113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16" y="97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113" y="16"/>
                    </a:lnTo>
                    <a:lnTo>
                      <a:pt x="113" y="16"/>
                    </a:lnTo>
                    <a:lnTo>
                      <a:pt x="129" y="16"/>
                    </a:lnTo>
                    <a:lnTo>
                      <a:pt x="145" y="64"/>
                    </a:lnTo>
                    <a:lnTo>
                      <a:pt x="129" y="64"/>
                    </a:lnTo>
                    <a:close/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257800" y="1549800"/>
                <a:ext cx="195120" cy="27000"/>
              </a:xfrm>
              <a:prstGeom prst="rect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019560" y="1447560"/>
              <a:ext cx="445680" cy="206280"/>
              <a:chOff x="6019560" y="1447560"/>
              <a:chExt cx="445680" cy="206280"/>
            </a:xfrm>
          </p:grpSpPr>
          <p:sp>
            <p:nvSpPr>
              <p:cNvPr id="487" name=""/>
              <p:cNvSpPr/>
              <p:nvPr/>
            </p:nvSpPr>
            <p:spPr>
              <a:xfrm flipH="1">
                <a:off x="6019560" y="1447560"/>
                <a:ext cx="250560" cy="206280"/>
              </a:xfrm>
              <a:custGeom>
                <a:avLst/>
                <a:gdLst/>
                <a:ahLst/>
                <a:rect l="l" t="t" r="r" b="b"/>
                <a:pathLst>
                  <a:path w="145" h="129">
                    <a:moveTo>
                      <a:pt x="129" y="64"/>
                    </a:moveTo>
                    <a:lnTo>
                      <a:pt x="113" y="16"/>
                    </a:lnTo>
                    <a:lnTo>
                      <a:pt x="113" y="32"/>
                    </a:lnTo>
                    <a:lnTo>
                      <a:pt x="113" y="3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16" y="3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32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45" y="64"/>
                    </a:lnTo>
                    <a:lnTo>
                      <a:pt x="145" y="64"/>
                    </a:lnTo>
                    <a:lnTo>
                      <a:pt x="129" y="97"/>
                    </a:lnTo>
                    <a:lnTo>
                      <a:pt x="129" y="97"/>
                    </a:lnTo>
                    <a:lnTo>
                      <a:pt x="113" y="113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16" y="97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113" y="16"/>
                    </a:lnTo>
                    <a:lnTo>
                      <a:pt x="113" y="16"/>
                    </a:lnTo>
                    <a:lnTo>
                      <a:pt x="129" y="16"/>
                    </a:lnTo>
                    <a:lnTo>
                      <a:pt x="145" y="64"/>
                    </a:lnTo>
                    <a:lnTo>
                      <a:pt x="129" y="64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6270120" y="1549800"/>
                <a:ext cx="195120" cy="27000"/>
              </a:xfrm>
              <a:prstGeom prst="rect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662080" y="1134360"/>
              <a:ext cx="384840" cy="409680"/>
              <a:chOff x="5662080" y="1134360"/>
              <a:chExt cx="384840" cy="409680"/>
            </a:xfrm>
          </p:grpSpPr>
          <p:sp>
            <p:nvSpPr>
              <p:cNvPr id="490" name=""/>
              <p:cNvSpPr/>
              <p:nvPr/>
            </p:nvSpPr>
            <p:spPr>
              <a:xfrm rot="18849000">
                <a:off x="5760360" y="1192680"/>
                <a:ext cx="250560" cy="205920"/>
              </a:xfrm>
              <a:custGeom>
                <a:avLst/>
                <a:gdLst/>
                <a:ahLst/>
                <a:rect l="l" t="t" r="r" b="b"/>
                <a:pathLst>
                  <a:path w="145" h="129">
                    <a:moveTo>
                      <a:pt x="129" y="64"/>
                    </a:moveTo>
                    <a:lnTo>
                      <a:pt x="113" y="16"/>
                    </a:lnTo>
                    <a:lnTo>
                      <a:pt x="113" y="32"/>
                    </a:lnTo>
                    <a:lnTo>
                      <a:pt x="113" y="32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64" y="16"/>
                    </a:lnTo>
                    <a:lnTo>
                      <a:pt x="16" y="3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16" y="64"/>
                    </a:lnTo>
                    <a:lnTo>
                      <a:pt x="32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64" y="113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13" y="97"/>
                    </a:lnTo>
                    <a:lnTo>
                      <a:pt x="129" y="64"/>
                    </a:lnTo>
                    <a:lnTo>
                      <a:pt x="129" y="64"/>
                    </a:lnTo>
                    <a:lnTo>
                      <a:pt x="145" y="64"/>
                    </a:lnTo>
                    <a:lnTo>
                      <a:pt x="145" y="64"/>
                    </a:lnTo>
                    <a:lnTo>
                      <a:pt x="129" y="97"/>
                    </a:lnTo>
                    <a:lnTo>
                      <a:pt x="129" y="97"/>
                    </a:lnTo>
                    <a:lnTo>
                      <a:pt x="113" y="113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64" y="129"/>
                    </a:lnTo>
                    <a:lnTo>
                      <a:pt x="16" y="113"/>
                    </a:lnTo>
                    <a:lnTo>
                      <a:pt x="16" y="113"/>
                    </a:lnTo>
                    <a:lnTo>
                      <a:pt x="16" y="97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16" y="16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64" y="0"/>
                    </a:lnTo>
                    <a:lnTo>
                      <a:pt x="113" y="16"/>
                    </a:lnTo>
                    <a:lnTo>
                      <a:pt x="113" y="16"/>
                    </a:lnTo>
                    <a:lnTo>
                      <a:pt x="129" y="16"/>
                    </a:lnTo>
                    <a:lnTo>
                      <a:pt x="145" y="64"/>
                    </a:lnTo>
                    <a:lnTo>
                      <a:pt x="129" y="64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rot="18849000">
                <a:off x="5641920" y="1451160"/>
                <a:ext cx="195120" cy="27000"/>
              </a:xfrm>
              <a:prstGeom prst="rect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>
            <a:off x="6935760" y="2971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495680" y="3505320"/>
            <a:ext cx="4267080" cy="1676160"/>
            <a:chOff x="4495680" y="3505320"/>
            <a:chExt cx="4267080" cy="1676160"/>
          </a:xfrm>
        </p:grpSpPr>
        <p:grpSp>
          <p:nvGrpSpPr>
            <p:cNvPr id="494" name=""/>
            <p:cNvGrpSpPr/>
            <p:nvPr/>
          </p:nvGrpSpPr>
          <p:grpSpPr>
            <a:xfrm>
              <a:off x="6476760" y="3505320"/>
              <a:ext cx="2286000" cy="1676160"/>
              <a:chOff x="6476760" y="3505320"/>
              <a:chExt cx="2286000" cy="1676160"/>
            </a:xfrm>
          </p:grpSpPr>
          <p:sp>
            <p:nvSpPr>
              <p:cNvPr id="495" name=""/>
              <p:cNvSpPr/>
              <p:nvPr/>
            </p:nvSpPr>
            <p:spPr>
              <a:xfrm>
                <a:off x="6476760" y="3505320"/>
                <a:ext cx="2286000" cy="167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40480" y="3657600"/>
                <a:ext cx="21787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Linear Time-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Invarian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ircuit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495680" y="3657240"/>
              <a:ext cx="1295280" cy="1371240"/>
              <a:chOff x="4495680" y="3657240"/>
              <a:chExt cx="1295280" cy="1371240"/>
            </a:xfrm>
          </p:grpSpPr>
          <p:sp>
            <p:nvSpPr>
              <p:cNvPr id="498" name=""/>
              <p:cNvSpPr/>
              <p:nvPr/>
            </p:nvSpPr>
            <p:spPr>
              <a:xfrm>
                <a:off x="4574520" y="3733200"/>
                <a:ext cx="12124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igi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ul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495680" y="3657240"/>
                <a:ext cx="1295280" cy="137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5790960" y="48002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790960" y="3885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013360" y="5680080"/>
            <a:ext cx="374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86480" y="5638680"/>
            <a:ext cx="35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Transient Exci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191120" y="1066680"/>
            <a:ext cx="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04920" y="3733920"/>
            <a:ext cx="388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752480" y="3898800"/>
            <a:ext cx="2362320" cy="1373760"/>
            <a:chOff x="1752480" y="3898800"/>
            <a:chExt cx="2362320" cy="1373760"/>
          </a:xfrm>
        </p:grpSpPr>
        <p:sp>
          <p:nvSpPr>
            <p:cNvPr id="507" name=""/>
            <p:cNvSpPr/>
            <p:nvPr/>
          </p:nvSpPr>
          <p:spPr>
            <a:xfrm>
              <a:off x="1752480" y="3898800"/>
              <a:ext cx="2362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Linear Time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varia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ircui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752480" y="3974760"/>
              <a:ext cx="2133720" cy="129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765000" y="4649760"/>
            <a:ext cx="20880" cy="14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65000" y="4530600"/>
            <a:ext cx="265320" cy="284400"/>
          </a:xfrm>
          <a:custGeom>
            <a:avLst/>
            <a:gdLst/>
            <a:ahLst/>
            <a:rect l="l" t="t" r="r" b="b"/>
            <a:pathLst>
              <a:path w="167" h="179">
                <a:moveTo>
                  <a:pt x="0" y="75"/>
                </a:moveTo>
                <a:lnTo>
                  <a:pt x="13" y="15"/>
                </a:lnTo>
                <a:lnTo>
                  <a:pt x="13" y="15"/>
                </a:lnTo>
                <a:lnTo>
                  <a:pt x="13" y="15"/>
                </a:lnTo>
                <a:lnTo>
                  <a:pt x="55" y="0"/>
                </a:lnTo>
                <a:lnTo>
                  <a:pt x="55" y="0"/>
                </a:lnTo>
                <a:lnTo>
                  <a:pt x="55" y="0"/>
                </a:lnTo>
                <a:lnTo>
                  <a:pt x="83" y="15"/>
                </a:lnTo>
                <a:lnTo>
                  <a:pt x="97" y="15"/>
                </a:lnTo>
                <a:lnTo>
                  <a:pt x="97" y="15"/>
                </a:lnTo>
                <a:lnTo>
                  <a:pt x="111" y="75"/>
                </a:lnTo>
                <a:lnTo>
                  <a:pt x="111" y="75"/>
                </a:lnTo>
                <a:lnTo>
                  <a:pt x="111" y="75"/>
                </a:lnTo>
                <a:lnTo>
                  <a:pt x="139" y="134"/>
                </a:lnTo>
                <a:lnTo>
                  <a:pt x="139" y="134"/>
                </a:lnTo>
                <a:lnTo>
                  <a:pt x="139" y="134"/>
                </a:lnTo>
                <a:lnTo>
                  <a:pt x="167" y="164"/>
                </a:lnTo>
                <a:lnTo>
                  <a:pt x="153" y="164"/>
                </a:lnTo>
                <a:lnTo>
                  <a:pt x="167" y="179"/>
                </a:lnTo>
                <a:lnTo>
                  <a:pt x="153" y="179"/>
                </a:lnTo>
                <a:lnTo>
                  <a:pt x="125" y="149"/>
                </a:lnTo>
                <a:lnTo>
                  <a:pt x="125" y="149"/>
                </a:lnTo>
                <a:lnTo>
                  <a:pt x="125" y="134"/>
                </a:lnTo>
                <a:lnTo>
                  <a:pt x="97" y="75"/>
                </a:lnTo>
                <a:lnTo>
                  <a:pt x="97" y="75"/>
                </a:lnTo>
                <a:lnTo>
                  <a:pt x="97" y="75"/>
                </a:lnTo>
                <a:lnTo>
                  <a:pt x="83" y="15"/>
                </a:lnTo>
                <a:lnTo>
                  <a:pt x="83" y="15"/>
                </a:lnTo>
                <a:lnTo>
                  <a:pt x="83" y="30"/>
                </a:lnTo>
                <a:lnTo>
                  <a:pt x="55" y="15"/>
                </a:lnTo>
                <a:lnTo>
                  <a:pt x="55" y="15"/>
                </a:lnTo>
                <a:lnTo>
                  <a:pt x="55" y="15"/>
                </a:lnTo>
                <a:lnTo>
                  <a:pt x="13" y="30"/>
                </a:lnTo>
                <a:lnTo>
                  <a:pt x="13" y="30"/>
                </a:lnTo>
                <a:lnTo>
                  <a:pt x="27" y="15"/>
                </a:lnTo>
                <a:lnTo>
                  <a:pt x="13" y="75"/>
                </a:lnTo>
                <a:lnTo>
                  <a:pt x="0" y="75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008000" y="4743360"/>
            <a:ext cx="66600" cy="71640"/>
          </a:xfrm>
          <a:custGeom>
            <a:avLst/>
            <a:gdLst/>
            <a:ahLst/>
            <a:rect l="l" t="t" r="r" b="b"/>
            <a:pathLst>
              <a:path w="42" h="45">
                <a:moveTo>
                  <a:pt x="0" y="30"/>
                </a:moveTo>
                <a:lnTo>
                  <a:pt x="28" y="0"/>
                </a:lnTo>
                <a:lnTo>
                  <a:pt x="28" y="0"/>
                </a:lnTo>
                <a:lnTo>
                  <a:pt x="42" y="0"/>
                </a:lnTo>
                <a:lnTo>
                  <a:pt x="42" y="15"/>
                </a:lnTo>
                <a:lnTo>
                  <a:pt x="14" y="45"/>
                </a:lnTo>
                <a:lnTo>
                  <a:pt x="0" y="30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096920" y="4649760"/>
            <a:ext cx="22320" cy="14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52640" y="4649760"/>
            <a:ext cx="66600" cy="93600"/>
          </a:xfrm>
          <a:custGeom>
            <a:avLst/>
            <a:gdLst/>
            <a:ahLst/>
            <a:rect l="l" t="t" r="r" b="b"/>
            <a:pathLst>
              <a:path w="42" h="59">
                <a:moveTo>
                  <a:pt x="0" y="59"/>
                </a:moveTo>
                <a:lnTo>
                  <a:pt x="14" y="59"/>
                </a:lnTo>
                <a:lnTo>
                  <a:pt x="42" y="0"/>
                </a:lnTo>
                <a:lnTo>
                  <a:pt x="28" y="0"/>
                </a:lnTo>
                <a:lnTo>
                  <a:pt x="0" y="5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4316400"/>
            <a:ext cx="663840" cy="711360"/>
          </a:xfrm>
          <a:custGeom>
            <a:avLst/>
            <a:gdLst/>
            <a:ahLst/>
            <a:rect l="l" t="t" r="r" b="b"/>
            <a:pathLst>
              <a:path w="418" h="448">
                <a:moveTo>
                  <a:pt x="404" y="210"/>
                </a:moveTo>
                <a:lnTo>
                  <a:pt x="390" y="135"/>
                </a:lnTo>
                <a:lnTo>
                  <a:pt x="390" y="150"/>
                </a:lnTo>
                <a:lnTo>
                  <a:pt x="390" y="150"/>
                </a:lnTo>
                <a:lnTo>
                  <a:pt x="348" y="75"/>
                </a:lnTo>
                <a:lnTo>
                  <a:pt x="348" y="75"/>
                </a:lnTo>
                <a:lnTo>
                  <a:pt x="348" y="75"/>
                </a:lnTo>
                <a:lnTo>
                  <a:pt x="279" y="30"/>
                </a:lnTo>
                <a:lnTo>
                  <a:pt x="279" y="30"/>
                </a:lnTo>
                <a:lnTo>
                  <a:pt x="279" y="30"/>
                </a:lnTo>
                <a:lnTo>
                  <a:pt x="195" y="15"/>
                </a:lnTo>
                <a:lnTo>
                  <a:pt x="195" y="15"/>
                </a:lnTo>
                <a:lnTo>
                  <a:pt x="195" y="15"/>
                </a:lnTo>
                <a:lnTo>
                  <a:pt x="125" y="30"/>
                </a:lnTo>
                <a:lnTo>
                  <a:pt x="139" y="30"/>
                </a:lnTo>
                <a:lnTo>
                  <a:pt x="139" y="30"/>
                </a:lnTo>
                <a:lnTo>
                  <a:pt x="70" y="75"/>
                </a:lnTo>
                <a:lnTo>
                  <a:pt x="70" y="75"/>
                </a:lnTo>
                <a:lnTo>
                  <a:pt x="70" y="75"/>
                </a:lnTo>
                <a:lnTo>
                  <a:pt x="28" y="150"/>
                </a:lnTo>
                <a:lnTo>
                  <a:pt x="28" y="135"/>
                </a:lnTo>
                <a:lnTo>
                  <a:pt x="28" y="135"/>
                </a:lnTo>
                <a:lnTo>
                  <a:pt x="14" y="210"/>
                </a:lnTo>
                <a:lnTo>
                  <a:pt x="14" y="210"/>
                </a:lnTo>
                <a:lnTo>
                  <a:pt x="14" y="210"/>
                </a:lnTo>
                <a:lnTo>
                  <a:pt x="28" y="299"/>
                </a:lnTo>
                <a:lnTo>
                  <a:pt x="28" y="299"/>
                </a:lnTo>
                <a:lnTo>
                  <a:pt x="28" y="299"/>
                </a:lnTo>
                <a:lnTo>
                  <a:pt x="70" y="359"/>
                </a:lnTo>
                <a:lnTo>
                  <a:pt x="70" y="359"/>
                </a:lnTo>
                <a:lnTo>
                  <a:pt x="70" y="359"/>
                </a:lnTo>
                <a:lnTo>
                  <a:pt x="139" y="404"/>
                </a:lnTo>
                <a:lnTo>
                  <a:pt x="125" y="404"/>
                </a:lnTo>
                <a:lnTo>
                  <a:pt x="125" y="404"/>
                </a:lnTo>
                <a:lnTo>
                  <a:pt x="195" y="434"/>
                </a:lnTo>
                <a:lnTo>
                  <a:pt x="195" y="434"/>
                </a:lnTo>
                <a:lnTo>
                  <a:pt x="195" y="434"/>
                </a:lnTo>
                <a:lnTo>
                  <a:pt x="279" y="404"/>
                </a:lnTo>
                <a:lnTo>
                  <a:pt x="279" y="404"/>
                </a:lnTo>
                <a:lnTo>
                  <a:pt x="279" y="404"/>
                </a:lnTo>
                <a:lnTo>
                  <a:pt x="348" y="359"/>
                </a:lnTo>
                <a:lnTo>
                  <a:pt x="348" y="359"/>
                </a:lnTo>
                <a:lnTo>
                  <a:pt x="348" y="359"/>
                </a:lnTo>
                <a:lnTo>
                  <a:pt x="390" y="299"/>
                </a:lnTo>
                <a:lnTo>
                  <a:pt x="390" y="299"/>
                </a:lnTo>
                <a:lnTo>
                  <a:pt x="390" y="299"/>
                </a:lnTo>
                <a:lnTo>
                  <a:pt x="404" y="210"/>
                </a:lnTo>
                <a:lnTo>
                  <a:pt x="404" y="210"/>
                </a:lnTo>
                <a:lnTo>
                  <a:pt x="418" y="210"/>
                </a:lnTo>
                <a:lnTo>
                  <a:pt x="418" y="210"/>
                </a:lnTo>
                <a:lnTo>
                  <a:pt x="404" y="299"/>
                </a:lnTo>
                <a:lnTo>
                  <a:pt x="404" y="299"/>
                </a:lnTo>
                <a:lnTo>
                  <a:pt x="404" y="314"/>
                </a:lnTo>
                <a:lnTo>
                  <a:pt x="362" y="374"/>
                </a:lnTo>
                <a:lnTo>
                  <a:pt x="362" y="374"/>
                </a:lnTo>
                <a:lnTo>
                  <a:pt x="362" y="374"/>
                </a:lnTo>
                <a:lnTo>
                  <a:pt x="293" y="419"/>
                </a:lnTo>
                <a:lnTo>
                  <a:pt x="293" y="419"/>
                </a:lnTo>
                <a:lnTo>
                  <a:pt x="279" y="419"/>
                </a:lnTo>
                <a:lnTo>
                  <a:pt x="195" y="448"/>
                </a:lnTo>
                <a:lnTo>
                  <a:pt x="195" y="448"/>
                </a:lnTo>
                <a:lnTo>
                  <a:pt x="195" y="448"/>
                </a:lnTo>
                <a:lnTo>
                  <a:pt x="125" y="419"/>
                </a:lnTo>
                <a:lnTo>
                  <a:pt x="125" y="419"/>
                </a:lnTo>
                <a:lnTo>
                  <a:pt x="125" y="419"/>
                </a:lnTo>
                <a:lnTo>
                  <a:pt x="56" y="374"/>
                </a:lnTo>
                <a:lnTo>
                  <a:pt x="56" y="374"/>
                </a:lnTo>
                <a:lnTo>
                  <a:pt x="56" y="374"/>
                </a:lnTo>
                <a:lnTo>
                  <a:pt x="14" y="314"/>
                </a:lnTo>
                <a:lnTo>
                  <a:pt x="14" y="314"/>
                </a:lnTo>
                <a:lnTo>
                  <a:pt x="14" y="299"/>
                </a:lnTo>
                <a:lnTo>
                  <a:pt x="0" y="210"/>
                </a:lnTo>
                <a:lnTo>
                  <a:pt x="0" y="210"/>
                </a:lnTo>
                <a:lnTo>
                  <a:pt x="0" y="210"/>
                </a:lnTo>
                <a:lnTo>
                  <a:pt x="14" y="135"/>
                </a:lnTo>
                <a:lnTo>
                  <a:pt x="14" y="135"/>
                </a:lnTo>
                <a:lnTo>
                  <a:pt x="14" y="135"/>
                </a:lnTo>
                <a:lnTo>
                  <a:pt x="56" y="60"/>
                </a:lnTo>
                <a:lnTo>
                  <a:pt x="56" y="60"/>
                </a:lnTo>
                <a:lnTo>
                  <a:pt x="56" y="60"/>
                </a:lnTo>
                <a:lnTo>
                  <a:pt x="125" y="15"/>
                </a:lnTo>
                <a:lnTo>
                  <a:pt x="125" y="15"/>
                </a:lnTo>
                <a:lnTo>
                  <a:pt x="125" y="15"/>
                </a:lnTo>
                <a:lnTo>
                  <a:pt x="195" y="0"/>
                </a:lnTo>
                <a:lnTo>
                  <a:pt x="195" y="0"/>
                </a:lnTo>
                <a:lnTo>
                  <a:pt x="195" y="0"/>
                </a:lnTo>
                <a:lnTo>
                  <a:pt x="279" y="15"/>
                </a:lnTo>
                <a:lnTo>
                  <a:pt x="279" y="15"/>
                </a:lnTo>
                <a:lnTo>
                  <a:pt x="293" y="15"/>
                </a:lnTo>
                <a:lnTo>
                  <a:pt x="362" y="60"/>
                </a:lnTo>
                <a:lnTo>
                  <a:pt x="362" y="60"/>
                </a:lnTo>
                <a:lnTo>
                  <a:pt x="362" y="60"/>
                </a:lnTo>
                <a:lnTo>
                  <a:pt x="404" y="135"/>
                </a:lnTo>
                <a:lnTo>
                  <a:pt x="404" y="135"/>
                </a:lnTo>
                <a:lnTo>
                  <a:pt x="404" y="135"/>
                </a:lnTo>
                <a:lnTo>
                  <a:pt x="418" y="210"/>
                </a:lnTo>
                <a:lnTo>
                  <a:pt x="404" y="210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251000" y="4649760"/>
            <a:ext cx="22320" cy="1440"/>
          </a:xfrm>
          <a:custGeom>
            <a:avLst/>
            <a:gdLst/>
            <a:ahLst/>
            <a:rect l="l" t="t" r="r" b="b"/>
            <a:pathLst>
              <a:path w="1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9080" y="4151160"/>
            <a:ext cx="22320" cy="1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9080" y="4316400"/>
            <a:ext cx="22320" cy="1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9080" y="4151160"/>
            <a:ext cx="22320" cy="1652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9080" y="5005440"/>
            <a:ext cx="22320" cy="144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919080" y="5170320"/>
            <a:ext cx="22320" cy="1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9080" y="5005440"/>
            <a:ext cx="22320" cy="16488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412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14400" y="519444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800" y="5202360"/>
            <a:ext cx="430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inusoidal (Sing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Frequency) 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AC Steady-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867280" y="3581280"/>
            <a:ext cx="533520" cy="228600"/>
            <a:chOff x="5867280" y="3581280"/>
            <a:chExt cx="533520" cy="228600"/>
          </a:xfrm>
        </p:grpSpPr>
        <p:grpSp>
          <p:nvGrpSpPr>
            <p:cNvPr id="526" name=""/>
            <p:cNvGrpSpPr/>
            <p:nvPr/>
          </p:nvGrpSpPr>
          <p:grpSpPr>
            <a:xfrm>
              <a:off x="5943600" y="3581280"/>
              <a:ext cx="380880" cy="228600"/>
              <a:chOff x="5943600" y="3581280"/>
              <a:chExt cx="380880" cy="228600"/>
            </a:xfrm>
          </p:grpSpPr>
          <p:sp>
            <p:nvSpPr>
              <p:cNvPr id="527" name=""/>
              <p:cNvSpPr/>
              <p:nvPr/>
            </p:nvSpPr>
            <p:spPr>
              <a:xfrm>
                <a:off x="594360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01956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4816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324480" y="35812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 flipH="1">
              <a:off x="58672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43600" y="3581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9920" y="38098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48520" y="35812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24480" y="38098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525600" y="3311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(DC Steady-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44920" y="29844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tep Ex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0977-A5EA-4783-A8E0-291BD23430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587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Why is Single-Frequency Excitation Important?</a:t>
            </a:r>
            <a:endParaRPr b="1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09400"/>
            <a:ext cx="82296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s are driven by a single-frequency sinusoidal sour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s are driven by sinusoidal sources whose frequency changes slowly ove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express any periodic electrical signal as a sum of single-frequency sinusoids – so you can analyze the response of the (linear, time-invariant) circuit to each individual frequency component and then sum the responses to get the total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17600" y="5070600"/>
            <a:ext cx="8726400" cy="18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8040" indent="-3380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is is known as Fourier Transform and is tremendously important to all kinds of engineering disciplin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9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D939-CCF5-43A9-B4A9-086C4EF1F4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"/>
          <p:cNvGraphicFramePr/>
          <p:nvPr/>
        </p:nvGraphicFramePr>
        <p:xfrm>
          <a:off x="0" y="609480"/>
          <a:ext cx="914400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533520" y="355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Representing a Square Wave as a Sum of  Sinuso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440" y="5289480"/>
            <a:ext cx="860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wave with 1-second period.  (b)  Fundamental component (dotted) with 1-second period, third-harmonic (solid black) with1/3-second period, and their sum (blue).  (c)  Sum of first ten components.  (d) Spectrum with 20 te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885D7-A33E-4B9A-88BC-A062A66BCC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teady-State Sinusoidal Analysi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AC steady-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steady state voltage or current in a linear circuit with a sinusoidal source is a sinus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onsequence of the nature of particular solutions for sinusoidal forcing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C steady state voltages and currents have the same frequency as the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find a steady state voltage or current, all we need to know is its magnitude and its phase relative to the sou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lready know its frequ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, an AC steady state voltage or current is given by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articular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differenti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5CC9-673A-4349-8A88-2FBCD4A486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Good News!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do not have to find this differential equation from the circuit, nor do we have to solv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we use the concepts of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haso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lex imped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ors and complex impedances convert problems involving differential equations into circuit analysi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D127-1ACB-424F-A845-BC743F472C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hasor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asor is a </a:t>
            </a:r>
            <a:r>
              <a:rPr b="0" lang="en-US" sz="3200" spc="-1" strike="noStrike">
                <a:solidFill>
                  <a:srgbClr val="9999cc"/>
                </a:solidFill>
                <a:latin typeface="Arial"/>
              </a:rPr>
              <a:t>complex nu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represent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h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sinusoidal voltage or 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, for AC steady state analysis, this is all we need to compute-we already know the frequency of any voltage or 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60D72-FE7A-4F91-9480-57584D7425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Lecture #5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 and RL Circuits with General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and complementary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con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rd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and complementary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frequency and the damping 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p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Circuit Ex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Sinusoidal Excit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a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x Imped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 4, Chap 5 (skip 5.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8ACBC-67D6-4121-BE35-E5681D6A92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omplex Impedanc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impedance describes the relationship between the voltage across an element (expressed as a phasor) and the current through the element (expressed as a phaso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dance is a complex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dance depends on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ors and complex impedance allow us to use Ohm’s law with complex numbers to compute current from voltage and voltage from 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D740D-84BB-4637-8DFD-EEE56BB3BBE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Sinusoid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tud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gular frequency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ns/se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angle: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: 1/sec or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necessary to go through on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2727360" y="1093680"/>
          <a:ext cx="319572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1093680"/>
                    <a:ext cx="31957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295EF-2E06-4C46-8CF7-A2A85C077E3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1620720" y="2293560"/>
            <a:ext cx="6048360" cy="3242160"/>
            <a:chOff x="1620720" y="2293560"/>
            <a:chExt cx="6048360" cy="3242160"/>
          </a:xfrm>
        </p:grpSpPr>
        <p:sp>
          <p:nvSpPr>
            <p:cNvPr id="558" name=""/>
            <p:cNvSpPr/>
            <p:nvPr/>
          </p:nvSpPr>
          <p:spPr>
            <a:xfrm flipV="1">
              <a:off x="3500280" y="2417400"/>
              <a:ext cx="12960" cy="255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513240" y="2394000"/>
              <a:ext cx="12600" cy="23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3525840" y="2381040"/>
              <a:ext cx="126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538440" y="2355480"/>
              <a:ext cx="12960" cy="255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551400" y="2342880"/>
              <a:ext cx="108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3562200" y="2331720"/>
              <a:ext cx="12960" cy="111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3575160" y="2319120"/>
              <a:ext cx="126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3587760" y="2306520"/>
              <a:ext cx="12600" cy="129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600360" y="2293560"/>
              <a:ext cx="1296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3320" y="2293920"/>
              <a:ext cx="1080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24120" y="2293920"/>
              <a:ext cx="1296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37080" y="2293920"/>
              <a:ext cx="1260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649680" y="2293920"/>
              <a:ext cx="1260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2280" y="2293920"/>
              <a:ext cx="1296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75240" y="2293920"/>
              <a:ext cx="108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86040" y="2306520"/>
              <a:ext cx="12960" cy="129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99000" y="2319480"/>
              <a:ext cx="12600" cy="144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11600" y="2319480"/>
              <a:ext cx="126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724200" y="2332080"/>
              <a:ext cx="11160" cy="23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35360" y="2355840"/>
              <a:ext cx="12600" cy="126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747960" y="2368440"/>
              <a:ext cx="1800" cy="255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47960" y="2394000"/>
              <a:ext cx="12960" cy="23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760920" y="2417760"/>
              <a:ext cx="12600" cy="255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773520" y="2443320"/>
              <a:ext cx="12600" cy="237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2467080"/>
              <a:ext cx="11160" cy="252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797280" y="2492280"/>
              <a:ext cx="12600" cy="255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09880" y="2517840"/>
              <a:ext cx="12960" cy="3636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22840" y="2554200"/>
              <a:ext cx="12600" cy="3672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1620720" y="2293560"/>
              <a:ext cx="6048360" cy="3242160"/>
              <a:chOff x="1620720" y="2293560"/>
              <a:chExt cx="6048360" cy="324216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1620720" y="2293920"/>
                <a:ext cx="1879560" cy="3241800"/>
                <a:chOff x="1620720" y="2293920"/>
                <a:chExt cx="1879560" cy="32418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1620720" y="22939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336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646280" y="22939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658880" y="23065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167004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682640" y="231948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695600" y="233208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708200" y="234324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720800" y="2368440"/>
                  <a:ext cx="111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731960" y="23814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744560" y="2405160"/>
                  <a:ext cx="129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57520" y="24303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70120" y="24559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82720" y="247968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793880" y="251784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806480" y="254160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819440" y="257796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832040" y="26161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844640" y="2652840"/>
                  <a:ext cx="1116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855800" y="26906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868400" y="27273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881360" y="27766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93960" y="2813040"/>
                  <a:ext cx="111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905120" y="28638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917720" y="29131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0320" y="2962440"/>
                  <a:ext cx="18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930320" y="30114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1943280" y="30607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1955880" y="31100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967040" y="31719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1979640" y="3220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992240" y="32828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004840" y="33321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017800" y="3394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28960" y="34560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041560" y="35053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054160" y="3567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66760" y="36291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79720" y="3691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090880" y="3753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103480" y="3814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116080" y="3876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128680" y="39387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141640" y="4000680"/>
                  <a:ext cx="11160" cy="61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152800" y="40622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165400" y="41115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178000" y="41734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190600" y="42354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201760" y="42973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214720" y="4359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227320" y="44211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239920" y="44704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52520" y="453240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263680" y="45813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276640" y="4643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289240" y="46926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301840" y="47545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314440" y="48038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325600" y="485316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338560" y="490212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351160" y="49528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363760" y="498960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376360" y="503856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387520" y="50878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400480" y="512604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413080" y="516240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425680" y="519912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436840" y="52372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49440" y="52736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462040" y="5310360"/>
                  <a:ext cx="129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475000" y="53355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487600" y="536112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498760" y="53848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1136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23960" y="5433840"/>
                  <a:ext cx="1296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536920" y="5459400"/>
                  <a:ext cx="144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536920" y="54720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549520" y="5495760"/>
                  <a:ext cx="111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60680" y="55087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573280" y="55213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585880" y="552132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59884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611440" y="55339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62260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3520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647800" y="55339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V="1">
                  <a:off x="2660760" y="55209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2673360" y="550836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2684520" y="549576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V="1">
                  <a:off x="2697120" y="548280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V="1">
                  <a:off x="2709720" y="5471640"/>
                  <a:ext cx="12960" cy="11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 flipV="1">
                  <a:off x="2722680" y="544680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 flipV="1">
                  <a:off x="2733840" y="543384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274644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2759040" y="53848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2771640" y="536112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2784600" y="532296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2795760" y="52992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2808360" y="526104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2820960" y="52243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2833560" y="518760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2846520" y="514980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2857680" y="51130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 flipV="1">
                  <a:off x="2870280" y="50637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 flipV="1">
                  <a:off x="2882880" y="502596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flipV="1">
                  <a:off x="2895480" y="497628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2908440" y="4927680"/>
                  <a:ext cx="108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 flipV="1">
                  <a:off x="2919240" y="48780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 flipV="1">
                  <a:off x="2932200" y="48286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 flipV="1">
                  <a:off x="2944800" y="4780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 flipV="1">
                  <a:off x="2957400" y="4728960"/>
                  <a:ext cx="111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 flipV="1">
                  <a:off x="2968560" y="46796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2981160" y="461808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 flipV="1">
                  <a:off x="2994120" y="45684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 flipV="1">
                  <a:off x="3006720" y="4506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 flipV="1">
                  <a:off x="3019320" y="445788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 flipV="1">
                  <a:off x="3030480" y="4395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 flipV="1">
                  <a:off x="3043080" y="433404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 flipV="1">
                  <a:off x="3056040" y="42721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3068640" y="42224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3081240" y="41608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 flipV="1">
                  <a:off x="3092400" y="4098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V="1">
                  <a:off x="3105000" y="403704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3117960" y="39751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3130560" y="39132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V="1">
                  <a:off x="3143160" y="3852720"/>
                  <a:ext cx="1800" cy="6048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V="1">
                  <a:off x="3143160" y="37908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3154320" y="37288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3166920" y="36669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3179880" y="3605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3192480" y="3556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3205080" y="349416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3216240" y="3432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3228840" y="33703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3241800" y="33206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3254400" y="3259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3265560" y="32094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3278160" y="3147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V="1">
                  <a:off x="3290760" y="309888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V="1">
                  <a:off x="3303720" y="304776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3316320" y="29984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V="1">
                  <a:off x="3327480" y="29491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V="1">
                  <a:off x="3340080" y="290052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3352680" y="285084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3365640" y="28015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3378240" y="276372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3389400" y="27147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3402000" y="26780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3414600" y="26398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3427560" y="260316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V="1">
                  <a:off x="3440160" y="256680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V="1">
                  <a:off x="3451320" y="25290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 flipV="1">
                  <a:off x="3463920" y="250524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3476520" y="24670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3489480" y="2443320"/>
                  <a:ext cx="108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3835440" y="2293560"/>
                <a:ext cx="2424240" cy="3242160"/>
                <a:chOff x="3835440" y="2293560"/>
                <a:chExt cx="2424240" cy="3242160"/>
              </a:xfrm>
            </p:grpSpPr>
            <p:sp>
              <p:nvSpPr>
                <p:cNvPr id="744" name=""/>
                <p:cNvSpPr/>
                <p:nvPr/>
              </p:nvSpPr>
              <p:spPr>
                <a:xfrm>
                  <a:off x="3835440" y="259092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848040" y="262908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859200" y="266544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871800" y="270180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884760" y="27399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897360" y="2789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909960" y="283860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921120" y="28749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33720" y="292428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946680" y="29750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959280" y="30243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71880" y="307332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983040" y="31352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995640" y="31845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008600" y="32464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4021200" y="32958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4032360" y="335772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4044960" y="34066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4057560" y="34686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4070520" y="35305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4083120" y="35924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094280" y="36543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106880" y="3716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119480" y="37656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132440" y="38275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145040" y="38894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156200" y="39513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68800" y="40132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181400" y="40752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4194000" y="41371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4206960" y="4199040"/>
                  <a:ext cx="11160" cy="60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4218120" y="42591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4230720" y="432108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4243320" y="4371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4255920" y="4433760"/>
                  <a:ext cx="11160" cy="6048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4267080" y="449424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280040" y="4545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4292640" y="46069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4305240" y="4656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317840" y="471816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4329000" y="476712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4341960" y="48164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4354560" y="4865760"/>
                  <a:ext cx="144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4354560" y="4915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4367160" y="49640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4379760" y="501336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390920" y="505152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4403880" y="51004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16480" y="51372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29080" y="517536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441680" y="5211720"/>
                  <a:ext cx="1116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452840" y="5248440"/>
                  <a:ext cx="1296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465800" y="5286240"/>
                  <a:ext cx="12600" cy="24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478400" y="5310360"/>
                  <a:ext cx="1260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491000" y="5348160"/>
                  <a:ext cx="12600" cy="24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503600" y="537228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4514760" y="539748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527720" y="542124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540320" y="544680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552920" y="545940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564080" y="54831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4576680" y="5495760"/>
                  <a:ext cx="129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589640" y="55087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602240" y="55213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4614840" y="552132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62600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63860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4651200" y="55339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66416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V="1">
                  <a:off x="4676760" y="552096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687920" y="55213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4700520" y="55083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V="1">
                  <a:off x="4713120" y="5495760"/>
                  <a:ext cx="129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V="1">
                  <a:off x="4726080" y="548280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V="1">
                  <a:off x="4738680" y="545940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V="1">
                  <a:off x="4749840" y="544644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V="1">
                  <a:off x="4762440" y="542088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V="1">
                  <a:off x="4775040" y="539748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4788000" y="537228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V="1">
                  <a:off x="4799160" y="5347800"/>
                  <a:ext cx="12600" cy="24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V="1">
                  <a:off x="4811760" y="5310000"/>
                  <a:ext cx="1260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4824360" y="5285880"/>
                  <a:ext cx="12600" cy="24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4836960" y="5248080"/>
                  <a:ext cx="1296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V="1">
                  <a:off x="4849920" y="5211720"/>
                  <a:ext cx="1116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V="1">
                  <a:off x="4861080" y="517500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V="1">
                  <a:off x="4873680" y="51372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V="1">
                  <a:off x="4886280" y="51004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V="1">
                  <a:off x="4898880" y="505152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V="1">
                  <a:off x="4911840" y="501336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V="1">
                  <a:off x="4923000" y="49636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V="1">
                  <a:off x="4935600" y="4915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V="1">
                  <a:off x="4948200" y="48654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V="1">
                  <a:off x="4960800" y="4816080"/>
                  <a:ext cx="18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V="1">
                  <a:off x="4960800" y="47667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V="1">
                  <a:off x="4973760" y="471816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4984920" y="4656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4997520" y="46065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5010120" y="4545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V="1">
                  <a:off x="5022720" y="449388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V="1">
                  <a:off x="5035680" y="4433760"/>
                  <a:ext cx="11160" cy="6048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V="1">
                  <a:off x="5046840" y="4371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>
                  <a:off x="5059440" y="432072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V="1">
                  <a:off x="5072040" y="42591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5084640" y="4198680"/>
                  <a:ext cx="11160" cy="601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V="1">
                  <a:off x="5095800" y="41371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V="1">
                  <a:off x="5108400" y="40752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V="1">
                  <a:off x="5121360" y="40132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V="1">
                  <a:off x="5133960" y="39513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V="1">
                  <a:off x="5146560" y="38894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V="1">
                  <a:off x="5157720" y="38275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>
                  <a:off x="5170320" y="37656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5183280" y="37159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V="1">
                  <a:off x="5195880" y="36543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V="1">
                  <a:off x="5208480" y="35924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V="1">
                  <a:off x="5219640" y="35305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V="1">
                  <a:off x="5232240" y="34686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V="1">
                  <a:off x="5245200" y="34066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V="1">
                  <a:off x="5257800" y="335772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5270400" y="32958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5281560" y="32461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V="1">
                  <a:off x="5294160" y="31845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V="1">
                  <a:off x="5307120" y="31348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5319720" y="307332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V="1">
                  <a:off x="5330880" y="30243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5343480" y="29746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V="1">
                  <a:off x="5356080" y="292392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5369040" y="28746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5381640" y="283824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5392800" y="27889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5405400" y="27396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V="1">
                  <a:off x="5418000" y="270180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V="1">
                  <a:off x="5430960" y="26650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5443560" y="262872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V="1">
                  <a:off x="5454720" y="259092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V="1">
                  <a:off x="5467320" y="255420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V="1">
                  <a:off x="5479920" y="251748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V="1">
                  <a:off x="5492880" y="249192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5505480" y="246708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V="1">
                  <a:off x="5516640" y="24433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5529240" y="241740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V="1">
                  <a:off x="5541840" y="239400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V="1">
                  <a:off x="5554800" y="2368080"/>
                  <a:ext cx="108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V="1">
                  <a:off x="5565600" y="2355480"/>
                  <a:ext cx="18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V="1">
                  <a:off x="5565600" y="233208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5578560" y="23191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559116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603760" y="23065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5616720" y="2293560"/>
                  <a:ext cx="108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627520" y="22939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6404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6530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665680" y="22939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678640" y="2293920"/>
                  <a:ext cx="108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689440" y="229392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70240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715000" y="231948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727600" y="2332080"/>
                  <a:ext cx="12960" cy="11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740560" y="2343240"/>
                  <a:ext cx="108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751360" y="2355840"/>
                  <a:ext cx="1296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764320" y="238140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776920" y="23940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789520" y="2417760"/>
                  <a:ext cx="1296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802480" y="2443320"/>
                  <a:ext cx="108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813280" y="24670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826240" y="250524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838840" y="25290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851440" y="256716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862600" y="260352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875200" y="26398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5888160" y="26780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5900760" y="27147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5913360" y="276372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924520" y="28018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937120" y="28512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950080" y="290052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962680" y="29494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975280" y="299880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986440" y="304812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999040" y="309888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012000" y="3147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024600" y="32097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037200" y="3259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048360" y="33210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060960" y="33703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073920" y="3432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086520" y="349416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097680" y="3556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110280" y="3605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22880" y="36669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35840" y="37288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148440" y="37908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159600" y="3852720"/>
                  <a:ext cx="12600" cy="6048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172200" y="3913200"/>
                  <a:ext cx="144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172200" y="39751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184800" y="403704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197760" y="4098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210360" y="41608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221520" y="42228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234120" y="42721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246720" y="433404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6259680" y="2293560"/>
                <a:ext cx="1409400" cy="3242160"/>
                <a:chOff x="6259680" y="2293560"/>
                <a:chExt cx="1409400" cy="32421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6259680" y="4395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272280" y="445788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283440" y="4506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296040" y="45687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308640" y="461808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321600" y="46800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34200" y="4729320"/>
                  <a:ext cx="1116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345360" y="4780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357960" y="4829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370560" y="489096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383160" y="492768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394320" y="497664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407280" y="502596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419880" y="50641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432480" y="511344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445080" y="514980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456240" y="518796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469200" y="52243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481800" y="526104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494400" y="52992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07000" y="532296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518160" y="536112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531120" y="53848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54372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556320" y="543384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568920" y="544680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580080" y="5472000"/>
                  <a:ext cx="12960" cy="11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593040" y="54831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605640" y="549576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618240" y="550872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629400" y="55213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642000" y="55339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65496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66756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680160" y="55339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6913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6703920" y="552096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6716880" y="55083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729480" y="55087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V="1">
                  <a:off x="6742080" y="5495760"/>
                  <a:ext cx="111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6753240" y="54720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6765840" y="545904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6778800" y="5433480"/>
                  <a:ext cx="144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77880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6791400" y="53848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V="1">
                  <a:off x="6804000" y="536112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V="1">
                  <a:off x="6815160" y="533520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V="1">
                  <a:off x="6827760" y="531036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V="1">
                  <a:off x="6840360" y="5273640"/>
                  <a:ext cx="1296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853320" y="523692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V="1">
                  <a:off x="6865920" y="519912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6877080" y="516240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6889680" y="51256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V="1">
                  <a:off x="6902280" y="508788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V="1">
                  <a:off x="6915240" y="503820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926400" y="498960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V="1">
                  <a:off x="6939000" y="49528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V="1">
                  <a:off x="6951600" y="490176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V="1">
                  <a:off x="6964200" y="485316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V="1">
                  <a:off x="6977160" y="480348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V="1">
                  <a:off x="6988320" y="4741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7000920" y="46922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V="1">
                  <a:off x="7013520" y="46429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V="1">
                  <a:off x="7026120" y="45813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V="1">
                  <a:off x="7039080" y="453240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7050240" y="44704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7062840" y="44208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7075440" y="4359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V="1">
                  <a:off x="7088040" y="42973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V="1">
                  <a:off x="7101000" y="42354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V="1">
                  <a:off x="7112160" y="41734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V="1">
                  <a:off x="7124760" y="41115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V="1">
                  <a:off x="7137360" y="40496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7149960" y="400068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V="1">
                  <a:off x="7161120" y="39387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V="1">
                  <a:off x="7174080" y="3876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V="1">
                  <a:off x="7186680" y="3814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 flipV="1">
                  <a:off x="7199280" y="3753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 flipV="1">
                  <a:off x="7211880" y="3691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V="1">
                  <a:off x="7223040" y="36291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7236000" y="3567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 flipV="1">
                  <a:off x="7248600" y="35053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 flipV="1">
                  <a:off x="7261200" y="34556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V="1">
                  <a:off x="7273800" y="3394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 flipV="1">
                  <a:off x="7284960" y="33321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 flipV="1">
                  <a:off x="7297560" y="328248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7310520" y="3220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 flipV="1">
                  <a:off x="7323120" y="31719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 flipV="1">
                  <a:off x="7335720" y="311004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 flipV="1">
                  <a:off x="7346880" y="30603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V="1">
                  <a:off x="7359480" y="301104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V="1">
                  <a:off x="7372440" y="296244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V="1">
                  <a:off x="7385040" y="2912760"/>
                  <a:ext cx="144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 flipV="1">
                  <a:off x="7385040" y="28634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7396200" y="281268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7408800" y="277632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421400" y="27270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V="1">
                  <a:off x="7434360" y="26906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flipV="1">
                  <a:off x="7446960" y="2652480"/>
                  <a:ext cx="11160" cy="37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7458120" y="26161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 flipV="1">
                  <a:off x="7470720" y="257796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 flipV="1">
                  <a:off x="7483320" y="254124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 flipV="1">
                  <a:off x="7496280" y="251784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 flipV="1">
                  <a:off x="7508880" y="2479680"/>
                  <a:ext cx="11160" cy="38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7520040" y="24559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 flipV="1">
                  <a:off x="7532640" y="243000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V="1">
                  <a:off x="7545240" y="2405160"/>
                  <a:ext cx="1296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V="1">
                  <a:off x="7558200" y="23814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V="1">
                  <a:off x="7570800" y="2368440"/>
                  <a:ext cx="1116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V="1">
                  <a:off x="7581960" y="234324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V="1">
                  <a:off x="7594560" y="233172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V="1">
                  <a:off x="7607160" y="231912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V="1">
                  <a:off x="762012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7632720" y="23065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 flipV="1">
                  <a:off x="7643880" y="22935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76564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61" name=""/>
          <p:cNvGrpSpPr/>
          <p:nvPr/>
        </p:nvGrpSpPr>
        <p:grpSpPr>
          <a:xfrm>
            <a:off x="1211760" y="1924200"/>
            <a:ext cx="6730200" cy="4013640"/>
            <a:chOff x="1211760" y="1924200"/>
            <a:chExt cx="6730200" cy="4013640"/>
          </a:xfrm>
        </p:grpSpPr>
        <p:grpSp>
          <p:nvGrpSpPr>
            <p:cNvPr id="1062" name=""/>
            <p:cNvGrpSpPr/>
            <p:nvPr/>
          </p:nvGrpSpPr>
          <p:grpSpPr>
            <a:xfrm>
              <a:off x="1547640" y="2058840"/>
              <a:ext cx="74880" cy="3711600"/>
              <a:chOff x="1547640" y="2058840"/>
              <a:chExt cx="74880" cy="3711600"/>
            </a:xfrm>
          </p:grpSpPr>
          <p:sp>
            <p:nvSpPr>
              <p:cNvPr id="1063" name=""/>
              <p:cNvSpPr/>
              <p:nvPr/>
            </p:nvSpPr>
            <p:spPr>
              <a:xfrm>
                <a:off x="1620720" y="2058840"/>
                <a:ext cx="1800" cy="3710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1547640" y="2058840"/>
                <a:ext cx="74880" cy="3711600"/>
                <a:chOff x="1547640" y="2058840"/>
                <a:chExt cx="74880" cy="371160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1547640" y="576900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547640" y="531036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547640" y="4840200"/>
                  <a:ext cx="73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547640" y="4383000"/>
                  <a:ext cx="73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547640" y="391320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547640" y="345600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547640" y="298620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547640" y="2529000"/>
                  <a:ext cx="730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547640" y="2058840"/>
                  <a:ext cx="730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V="1">
                  <a:off x="1620720" y="3912840"/>
                  <a:ext cx="180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5" name=""/>
            <p:cNvGrpSpPr/>
            <p:nvPr/>
          </p:nvGrpSpPr>
          <p:grpSpPr>
            <a:xfrm>
              <a:off x="1211760" y="1924200"/>
              <a:ext cx="230400" cy="4013640"/>
              <a:chOff x="1211760" y="1924200"/>
              <a:chExt cx="230400" cy="4013640"/>
            </a:xfrm>
          </p:grpSpPr>
          <p:sp>
            <p:nvSpPr>
              <p:cNvPr id="1076" name=""/>
              <p:cNvSpPr/>
              <p:nvPr/>
            </p:nvSpPr>
            <p:spPr>
              <a:xfrm>
                <a:off x="1211760" y="5632560"/>
                <a:ext cx="227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211760" y="5175360"/>
                <a:ext cx="227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211760" y="4705200"/>
                <a:ext cx="2278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299600" y="3321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299600" y="2851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299600" y="23940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299600" y="1924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3" name=""/>
            <p:cNvGrpSpPr/>
            <p:nvPr/>
          </p:nvGrpSpPr>
          <p:grpSpPr>
            <a:xfrm>
              <a:off x="1211760" y="3778200"/>
              <a:ext cx="6730200" cy="775080"/>
              <a:chOff x="1211760" y="3778200"/>
              <a:chExt cx="6730200" cy="77508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1620720" y="3912840"/>
                <a:ext cx="6061320" cy="74520"/>
                <a:chOff x="1620720" y="3912840"/>
                <a:chExt cx="6061320" cy="745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1620720" y="3913200"/>
                  <a:ext cx="6061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2833560" y="3912840"/>
                  <a:ext cx="180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4044960" y="3912840"/>
                  <a:ext cx="144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5257800" y="3912840"/>
                  <a:ext cx="144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1211760" y="3778200"/>
                <a:ext cx="6730200" cy="775080"/>
                <a:chOff x="1211760" y="3778200"/>
                <a:chExt cx="6730200" cy="775080"/>
              </a:xfrm>
            </p:grpSpPr>
            <p:sp>
              <p:nvSpPr>
                <p:cNvPr id="1090" name=""/>
                <p:cNvSpPr/>
                <p:nvPr/>
              </p:nvSpPr>
              <p:spPr>
                <a:xfrm flipV="1">
                  <a:off x="6469200" y="3912840"/>
                  <a:ext cx="144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7682040" y="3912840"/>
                  <a:ext cx="1440" cy="74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2" name=""/>
                <p:cNvGrpSpPr/>
                <p:nvPr/>
              </p:nvGrpSpPr>
              <p:grpSpPr>
                <a:xfrm>
                  <a:off x="1211760" y="3778200"/>
                  <a:ext cx="6730200" cy="775080"/>
                  <a:chOff x="1211760" y="3778200"/>
                  <a:chExt cx="6730200" cy="775080"/>
                </a:xfrm>
              </p:grpSpPr>
              <p:sp>
                <p:nvSpPr>
                  <p:cNvPr id="1093" name=""/>
                  <p:cNvSpPr/>
                  <p:nvPr/>
                </p:nvSpPr>
                <p:spPr>
                  <a:xfrm>
                    <a:off x="1211760" y="4248000"/>
                    <a:ext cx="2278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-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1299600" y="377820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1558440" y="4124160"/>
                    <a:ext cx="1425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2597760" y="4124160"/>
                    <a:ext cx="4960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.0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3808800" y="4124160"/>
                    <a:ext cx="4960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.0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5021640" y="4124160"/>
                    <a:ext cx="4960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.0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6233040" y="4124160"/>
                    <a:ext cx="4960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.04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7445880" y="4124160"/>
                    <a:ext cx="49608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.0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01" name=""/>
          <p:cNvGrpSpPr/>
          <p:nvPr/>
        </p:nvGrpSpPr>
        <p:grpSpPr>
          <a:xfrm>
            <a:off x="1620720" y="2293560"/>
            <a:ext cx="6048360" cy="3242160"/>
            <a:chOff x="1620720" y="2293560"/>
            <a:chExt cx="6048360" cy="3242160"/>
          </a:xfrm>
        </p:grpSpPr>
        <p:grpSp>
          <p:nvGrpSpPr>
            <p:cNvPr id="1102" name=""/>
            <p:cNvGrpSpPr/>
            <p:nvPr/>
          </p:nvGrpSpPr>
          <p:grpSpPr>
            <a:xfrm>
              <a:off x="1620720" y="2293560"/>
              <a:ext cx="4662720" cy="3242160"/>
              <a:chOff x="1620720" y="2293560"/>
              <a:chExt cx="4662720" cy="3242160"/>
            </a:xfrm>
          </p:grpSpPr>
          <p:grpSp>
            <p:nvGrpSpPr>
              <p:cNvPr id="1103" name=""/>
              <p:cNvGrpSpPr/>
              <p:nvPr/>
            </p:nvGrpSpPr>
            <p:grpSpPr>
              <a:xfrm>
                <a:off x="1620720" y="2293560"/>
                <a:ext cx="2114640" cy="3242160"/>
                <a:chOff x="1620720" y="2293560"/>
                <a:chExt cx="2114640" cy="3242160"/>
              </a:xfrm>
            </p:grpSpPr>
            <p:grpSp>
              <p:nvGrpSpPr>
                <p:cNvPr id="1104" name=""/>
                <p:cNvGrpSpPr/>
                <p:nvPr/>
              </p:nvGrpSpPr>
              <p:grpSpPr>
                <a:xfrm>
                  <a:off x="1708200" y="2293560"/>
                  <a:ext cx="493560" cy="469800"/>
                  <a:chOff x="1708200" y="2293560"/>
                  <a:chExt cx="493560" cy="46980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V="1">
                    <a:off x="1708200" y="272700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V="1">
                    <a:off x="1720800" y="2677680"/>
                    <a:ext cx="111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V="1">
                    <a:off x="1731960" y="2639880"/>
                    <a:ext cx="1260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V="1">
                    <a:off x="1744560" y="2603160"/>
                    <a:ext cx="129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V="1">
                    <a:off x="1757520" y="256680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V="1">
                    <a:off x="1770120" y="254124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V="1">
                    <a:off x="1782720" y="2504880"/>
                    <a:ext cx="111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V="1">
                    <a:off x="1793880" y="247932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flipV="1">
                    <a:off x="1806480" y="2442960"/>
                    <a:ext cx="129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 flipV="1">
                    <a:off x="1819440" y="241740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V="1">
                    <a:off x="1832040" y="240480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V="1">
                    <a:off x="1844640" y="2381400"/>
                    <a:ext cx="1116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V="1">
                    <a:off x="1855800" y="235548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V="1">
                    <a:off x="1868400" y="2342880"/>
                    <a:ext cx="1296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V="1">
                    <a:off x="1881360" y="2331720"/>
                    <a:ext cx="12600" cy="11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V="1">
                    <a:off x="1893960" y="2319120"/>
                    <a:ext cx="1116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V="1">
                    <a:off x="1905120" y="2306520"/>
                    <a:ext cx="12600" cy="12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 flipV="1">
                    <a:off x="1917720" y="229356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1930320" y="2293920"/>
                    <a:ext cx="180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1930320" y="2293920"/>
                    <a:ext cx="1296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1943280" y="2293920"/>
                    <a:ext cx="1260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1955880" y="2293920"/>
                    <a:ext cx="1116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1967040" y="2293920"/>
                    <a:ext cx="1260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1979640" y="229392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1992240" y="2306520"/>
                    <a:ext cx="12600" cy="1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2004840" y="2306520"/>
                    <a:ext cx="12960" cy="12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017800" y="2319480"/>
                    <a:ext cx="1116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2028960" y="2332080"/>
                    <a:ext cx="1260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2041560" y="235584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054160" y="236844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2066760" y="2394000"/>
                    <a:ext cx="12960" cy="11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2079720" y="2405160"/>
                    <a:ext cx="11160" cy="252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090880" y="243036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2103480" y="245592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2116080" y="2492280"/>
                    <a:ext cx="1260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2128680" y="2517840"/>
                    <a:ext cx="129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2141640" y="2554200"/>
                    <a:ext cx="11160" cy="367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2152800" y="2590920"/>
                    <a:ext cx="12600" cy="252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2165400" y="261612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2178000" y="266544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2190600" y="2701800"/>
                    <a:ext cx="1116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6" name=""/>
                <p:cNvGrpSpPr/>
                <p:nvPr/>
              </p:nvGrpSpPr>
              <p:grpSpPr>
                <a:xfrm>
                  <a:off x="1620720" y="2739960"/>
                  <a:ext cx="2114640" cy="2795760"/>
                  <a:chOff x="1620720" y="2739960"/>
                  <a:chExt cx="2114640" cy="2795760"/>
                </a:xfrm>
              </p:grpSpPr>
              <p:sp>
                <p:nvSpPr>
                  <p:cNvPr id="1147" name=""/>
                  <p:cNvSpPr/>
                  <p:nvPr/>
                </p:nvSpPr>
                <p:spPr>
                  <a:xfrm flipV="1">
                    <a:off x="1620720" y="3047760"/>
                    <a:ext cx="1296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 flipV="1">
                    <a:off x="1633680" y="299844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V="1">
                    <a:off x="1646280" y="294912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V="1">
                    <a:off x="1658880" y="2900520"/>
                    <a:ext cx="1116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V="1">
                    <a:off x="1670040" y="285084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V="1">
                    <a:off x="1682640" y="2813040"/>
                    <a:ext cx="1296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V="1">
                    <a:off x="1695600" y="276336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201760" y="273996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214720" y="278928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227320" y="282564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239920" y="287496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252520" y="2924280"/>
                    <a:ext cx="1116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263680" y="297504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276640" y="3024360"/>
                    <a:ext cx="126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289240" y="307332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301840" y="312264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314440" y="3184560"/>
                    <a:ext cx="111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325600" y="323388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338560" y="3295800"/>
                    <a:ext cx="126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351160" y="33447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363760" y="340668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376360" y="3468600"/>
                    <a:ext cx="111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387520" y="351792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400480" y="357984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413080" y="36417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425680" y="3703680"/>
                    <a:ext cx="111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436840" y="376560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449440" y="38275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462040" y="388944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475000" y="39513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487600" y="4013280"/>
                    <a:ext cx="111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498760" y="407520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511360" y="4137120"/>
                    <a:ext cx="126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523960" y="418608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536920" y="4248000"/>
                    <a:ext cx="144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536920" y="43099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549520" y="4371840"/>
                    <a:ext cx="111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560680" y="443376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573280" y="448308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585880" y="454500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598840" y="45943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611440" y="4656240"/>
                    <a:ext cx="1116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622600" y="470520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635200" y="47545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647800" y="481644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660760" y="486576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673360" y="4915080"/>
                    <a:ext cx="1116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684520" y="4964040"/>
                    <a:ext cx="1260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697120" y="500220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2709720" y="5051520"/>
                    <a:ext cx="129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2722680" y="5087880"/>
                    <a:ext cx="111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733840" y="5137200"/>
                    <a:ext cx="1260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746440" y="517536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759040" y="5211720"/>
                    <a:ext cx="12600" cy="367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771640" y="5248440"/>
                    <a:ext cx="12960" cy="37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784600" y="5286240"/>
                    <a:ext cx="11160" cy="241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795760" y="5310360"/>
                    <a:ext cx="12600" cy="37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808360" y="5348160"/>
                    <a:ext cx="12600" cy="241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820960" y="5372280"/>
                    <a:ext cx="12600" cy="252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833560" y="5397480"/>
                    <a:ext cx="1296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846520" y="5421240"/>
                    <a:ext cx="1116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857680" y="544680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870280" y="5459400"/>
                    <a:ext cx="1260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882880" y="548316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895480" y="5495760"/>
                    <a:ext cx="12960" cy="12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908440" y="5508720"/>
                    <a:ext cx="108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919240" y="5521320"/>
                    <a:ext cx="1296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932200" y="552132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944800" y="5533920"/>
                    <a:ext cx="12600" cy="1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957400" y="5533920"/>
                    <a:ext cx="11160" cy="1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968560" y="5533920"/>
                    <a:ext cx="12600" cy="1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981160" y="5533920"/>
                    <a:ext cx="12960" cy="1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 flipV="1">
                    <a:off x="2994120" y="552096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3006720" y="5521320"/>
                    <a:ext cx="12600" cy="144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V="1">
                    <a:off x="3019320" y="5508360"/>
                    <a:ext cx="1116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 flipV="1">
                    <a:off x="3030480" y="5495760"/>
                    <a:ext cx="12600" cy="12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 flipV="1">
                    <a:off x="3043080" y="5482800"/>
                    <a:ext cx="1296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flipV="1">
                    <a:off x="3056040" y="5459400"/>
                    <a:ext cx="1260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V="1">
                    <a:off x="3068640" y="5446440"/>
                    <a:ext cx="12600" cy="126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 flipV="1">
                    <a:off x="3081240" y="5420880"/>
                    <a:ext cx="11160" cy="255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flipV="1">
                    <a:off x="3092400" y="5397480"/>
                    <a:ext cx="12600" cy="23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 flipV="1">
                    <a:off x="3105000" y="5372280"/>
                    <a:ext cx="12960" cy="252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 flipV="1">
                    <a:off x="3117960" y="5347800"/>
                    <a:ext cx="12600" cy="241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flipV="1">
                    <a:off x="3130560" y="5322960"/>
                    <a:ext cx="12600" cy="252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 flipV="1">
                    <a:off x="3143160" y="5286240"/>
                    <a:ext cx="1800" cy="367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V="1">
                    <a:off x="3143160" y="5248080"/>
                    <a:ext cx="11160" cy="3780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flipV="1">
                    <a:off x="3154320" y="5223960"/>
                    <a:ext cx="12600" cy="241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 flipV="1">
                    <a:off x="3166920" y="5187600"/>
                    <a:ext cx="129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V="1">
                    <a:off x="3179880" y="5136840"/>
                    <a:ext cx="1260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V="1">
                    <a:off x="3192480" y="5100480"/>
                    <a:ext cx="12600" cy="367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V="1">
                    <a:off x="3205080" y="5063760"/>
                    <a:ext cx="1116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 flipV="1">
                    <a:off x="3216240" y="5013000"/>
                    <a:ext cx="1260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V="1">
                    <a:off x="3228840" y="496368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V="1">
                    <a:off x="3241800" y="4927320"/>
                    <a:ext cx="12600" cy="363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V="1">
                    <a:off x="3254400" y="4878000"/>
                    <a:ext cx="111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 flipV="1">
                    <a:off x="3265560" y="482868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 flipV="1">
                    <a:off x="3278160" y="47671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V="1">
                    <a:off x="3290760" y="4718160"/>
                    <a:ext cx="1296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V="1">
                    <a:off x="3303720" y="4667040"/>
                    <a:ext cx="1260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V="1">
                    <a:off x="3316320" y="4606920"/>
                    <a:ext cx="11160" cy="6048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flipV="1">
                    <a:off x="3327480" y="4555800"/>
                    <a:ext cx="1260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3340080" y="449424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3352680" y="444456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3365640" y="438300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V="1">
                    <a:off x="3378240" y="4321080"/>
                    <a:ext cx="111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 flipV="1">
                    <a:off x="3389400" y="42591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 flipV="1">
                    <a:off x="3402000" y="4198680"/>
                    <a:ext cx="12600" cy="601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flipV="1">
                    <a:off x="3414600" y="4147920"/>
                    <a:ext cx="1296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 flipV="1">
                    <a:off x="3427560" y="40863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 flipV="1">
                    <a:off x="3440160" y="4025880"/>
                    <a:ext cx="11160" cy="6048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V="1">
                    <a:off x="3451320" y="39639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 flipV="1">
                    <a:off x="3463920" y="390204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 flipV="1">
                    <a:off x="3476520" y="384012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flipV="1">
                    <a:off x="3489480" y="3778200"/>
                    <a:ext cx="108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 flipV="1">
                    <a:off x="3500280" y="371628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 flipV="1">
                    <a:off x="3513240" y="365436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 flipV="1">
                    <a:off x="3525840" y="359244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 flipV="1">
                    <a:off x="3538440" y="353052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V="1">
                    <a:off x="3551400" y="3481560"/>
                    <a:ext cx="108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flipV="1">
                    <a:off x="3562200" y="341964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V="1">
                    <a:off x="3575160" y="3357720"/>
                    <a:ext cx="1260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V="1">
                    <a:off x="3587760" y="330804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V="1">
                    <a:off x="3600360" y="324648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V="1">
                    <a:off x="3613320" y="3196800"/>
                    <a:ext cx="108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V="1">
                    <a:off x="3624120" y="3135240"/>
                    <a:ext cx="12960" cy="619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flipV="1">
                    <a:off x="3637080" y="3086280"/>
                    <a:ext cx="126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3649680" y="303660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V="1">
                    <a:off x="3662280" y="2985840"/>
                    <a:ext cx="12960" cy="507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 flipV="1">
                    <a:off x="3675240" y="2936520"/>
                    <a:ext cx="108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 flipV="1">
                    <a:off x="3686040" y="2887200"/>
                    <a:ext cx="1296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 flipV="1">
                    <a:off x="3699000" y="2838600"/>
                    <a:ext cx="12600" cy="489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 flipV="1">
                    <a:off x="3711600" y="2788920"/>
                    <a:ext cx="12600" cy="4932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 flipV="1">
                    <a:off x="3724200" y="2751120"/>
                    <a:ext cx="11160" cy="38160"/>
                  </a:xfrm>
                  <a:prstGeom prst="line">
                    <a:avLst/>
                  </a:prstGeom>
                  <a:ln w="36360">
                    <a:solidFill>
                      <a:srgbClr val="9933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859200" y="2293560"/>
                <a:ext cx="2424240" cy="3242160"/>
                <a:chOff x="3859200" y="2293560"/>
                <a:chExt cx="2424240" cy="3242160"/>
              </a:xfrm>
            </p:grpSpPr>
            <p:sp>
              <p:nvSpPr>
                <p:cNvPr id="1281" name=""/>
                <p:cNvSpPr/>
                <p:nvPr/>
              </p:nvSpPr>
              <p:spPr>
                <a:xfrm flipV="1">
                  <a:off x="3859200" y="236808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3871800" y="235548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V="1">
                  <a:off x="3884760" y="234288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V="1">
                  <a:off x="3897360" y="233172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3909960" y="231912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V="1">
                  <a:off x="392112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V="1">
                  <a:off x="3933720" y="229356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39466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395928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3971880" y="2293920"/>
                  <a:ext cx="1116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398304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3995640" y="22939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4008600" y="22939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021200" y="2306520"/>
                  <a:ext cx="1116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032360" y="231948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044960" y="233208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4057560" y="234324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070520" y="235584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4083120" y="238140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4094280" y="23940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106880" y="24177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4119480" y="244332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132440" y="246708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145040" y="250524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4156200" y="25290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168800" y="256716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181400" y="260352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4194000" y="262908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4206960" y="2678040"/>
                  <a:ext cx="1116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218120" y="271476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4230720" y="275112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243320" y="28018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255920" y="283860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267080" y="28875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280040" y="29368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292640" y="298620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4305240" y="30369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4317840" y="3086280"/>
                  <a:ext cx="11160" cy="61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4329000" y="314784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4341960" y="31971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4354560" y="3259080"/>
                  <a:ext cx="144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4354560" y="33084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4367160" y="33703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4379760" y="34322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4390920" y="34815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4403880" y="3543480"/>
                  <a:ext cx="12600" cy="61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4416480" y="3605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4429080" y="3666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4441680" y="37288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4452840" y="37908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465800" y="38527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478400" y="3902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4491000" y="3963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4503600" y="4025880"/>
                  <a:ext cx="11160" cy="6048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4514760" y="40863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527720" y="41482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540320" y="42102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552920" y="427212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564080" y="433404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4576680" y="43830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4589640" y="44449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4602240" y="45068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4614840" y="455616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4626000" y="46180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638600" y="46674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4651200" y="472932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4664160" y="47800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4676760" y="48290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4687920" y="48783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4700520" y="492768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4713120" y="4976640"/>
                  <a:ext cx="1296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4726080" y="501336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38680" y="506412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749840" y="51004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762440" y="514980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4775040" y="518796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4788000" y="5224320"/>
                  <a:ext cx="1116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4799160" y="526104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4811760" y="52862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824360" y="532296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836960" y="5348160"/>
                  <a:ext cx="1296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4849920" y="538488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4861080" y="541008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873680" y="542124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886280" y="544680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4898880" y="5472000"/>
                  <a:ext cx="1296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4911840" y="548316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923000" y="549576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4935600" y="55087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4948200" y="55213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960800" y="5533920"/>
                  <a:ext cx="18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960800" y="55339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973760" y="55339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9849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9975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V="1">
                  <a:off x="5010120" y="55209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5022720" y="55213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V="1">
                  <a:off x="5035680" y="550836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V="1">
                  <a:off x="5046840" y="549576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V="1">
                  <a:off x="5059440" y="54720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V="1">
                  <a:off x="5072040" y="545904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V="1">
                  <a:off x="5084640" y="5433480"/>
                  <a:ext cx="1116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V="1">
                  <a:off x="5095800" y="542088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V="1">
                  <a:off x="5108400" y="539748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V="1">
                  <a:off x="5121360" y="53722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V="1">
                  <a:off x="5133960" y="533556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V="1">
                  <a:off x="5146560" y="531036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V="1">
                  <a:off x="5157720" y="52736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V="1">
                  <a:off x="5170320" y="523692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V="1">
                  <a:off x="5183280" y="52113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V="1">
                  <a:off x="5195880" y="51620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V="1">
                  <a:off x="5208480" y="512568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V="1">
                  <a:off x="5219640" y="508788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V="1">
                  <a:off x="5232240" y="50382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V="1">
                  <a:off x="5245200" y="500184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V="1">
                  <a:off x="5257800" y="49525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V="1">
                  <a:off x="5270400" y="4901760"/>
                  <a:ext cx="1116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V="1">
                  <a:off x="5281560" y="485316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V="1">
                  <a:off x="5294160" y="480348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V="1">
                  <a:off x="5307120" y="47541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V="1">
                  <a:off x="5319720" y="470484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V="1">
                  <a:off x="5330880" y="46432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V="1">
                  <a:off x="5343480" y="459432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V="1">
                  <a:off x="5356080" y="45324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V="1">
                  <a:off x="5369040" y="44827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V="1">
                  <a:off x="5381640" y="442116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V="1">
                  <a:off x="5392800" y="4359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V="1">
                  <a:off x="5405400" y="43095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V="1">
                  <a:off x="5418000" y="42480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V="1">
                  <a:off x="5430960" y="41860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V="1">
                  <a:off x="5443560" y="412416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V="1">
                  <a:off x="5454720" y="4062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V="1">
                  <a:off x="5467320" y="4000320"/>
                  <a:ext cx="12600" cy="61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V="1">
                  <a:off x="5479920" y="39387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V="1">
                  <a:off x="5492880" y="38768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V="1">
                  <a:off x="5505480" y="381492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V="1">
                  <a:off x="5516640" y="3753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V="1">
                  <a:off x="5529240" y="36910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V="1">
                  <a:off x="5541840" y="36414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V="1">
                  <a:off x="5554800" y="3579840"/>
                  <a:ext cx="108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V="1">
                  <a:off x="5565600" y="3517920"/>
                  <a:ext cx="18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V="1">
                  <a:off x="5565600" y="34560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V="1">
                  <a:off x="5578560" y="33940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V="1">
                  <a:off x="5591160" y="33444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V="1">
                  <a:off x="5603760" y="328284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V="1">
                  <a:off x="5616720" y="3233880"/>
                  <a:ext cx="108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V="1">
                  <a:off x="5627520" y="317196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V="1">
                  <a:off x="5640480" y="3122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V="1">
                  <a:off x="5653080" y="30729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V="1">
                  <a:off x="5665680" y="30114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V="1">
                  <a:off x="5678640" y="2962440"/>
                  <a:ext cx="108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V="1">
                  <a:off x="5689440" y="29127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V="1">
                  <a:off x="5702400" y="28634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V="1">
                  <a:off x="5715000" y="282564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5727600" y="2776680"/>
                  <a:ext cx="129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V="1">
                  <a:off x="5740560" y="2739960"/>
                  <a:ext cx="108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V="1">
                  <a:off x="5751360" y="269028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V="1">
                  <a:off x="5764320" y="2652480"/>
                  <a:ext cx="12600" cy="37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5776920" y="26161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5789520" y="257796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V="1">
                  <a:off x="5802480" y="2541240"/>
                  <a:ext cx="108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V="1">
                  <a:off x="5813280" y="251784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V="1">
                  <a:off x="5826240" y="247968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5838840" y="24559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V="1">
                  <a:off x="5851440" y="2430000"/>
                  <a:ext cx="1116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V="1">
                  <a:off x="5862600" y="240516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V="1">
                  <a:off x="5875200" y="2381400"/>
                  <a:ext cx="129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V="1">
                  <a:off x="5888160" y="236844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5900760" y="234324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5913360" y="2331720"/>
                  <a:ext cx="1116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V="1">
                  <a:off x="5924520" y="23191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V="1">
                  <a:off x="5937120" y="2306520"/>
                  <a:ext cx="1296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950080" y="23065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 flipV="1">
                  <a:off x="5962680" y="22935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5975280" y="2293920"/>
                  <a:ext cx="1116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598644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5999040" y="2293920"/>
                  <a:ext cx="1296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012000" y="22939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6024600" y="22939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037200" y="23065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6048360" y="230652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6060960" y="231948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6073920" y="2332080"/>
                  <a:ext cx="1260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086520" y="234324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097680" y="236844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110280" y="23814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22880" y="2405160"/>
                  <a:ext cx="129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135840" y="24303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148440" y="245592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159600" y="247968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172200" y="2505240"/>
                  <a:ext cx="144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6172200" y="254160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6184800" y="2577960"/>
                  <a:ext cx="1296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197760" y="26035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6210360" y="2652840"/>
                  <a:ext cx="11160" cy="37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6221520" y="269064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234120" y="272736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6246720" y="276372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6259680" y="281304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272280" y="286380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81" name=""/>
            <p:cNvGrpSpPr/>
            <p:nvPr/>
          </p:nvGrpSpPr>
          <p:grpSpPr>
            <a:xfrm>
              <a:off x="3735360" y="2394000"/>
              <a:ext cx="3933720" cy="3141720"/>
              <a:chOff x="3735360" y="2394000"/>
              <a:chExt cx="3933720" cy="3141720"/>
            </a:xfrm>
          </p:grpSpPr>
          <p:grpSp>
            <p:nvGrpSpPr>
              <p:cNvPr id="1482" name=""/>
              <p:cNvGrpSpPr/>
              <p:nvPr/>
            </p:nvGrpSpPr>
            <p:grpSpPr>
              <a:xfrm>
                <a:off x="3735360" y="2394000"/>
                <a:ext cx="123840" cy="356760"/>
                <a:chOff x="3735360" y="2394000"/>
                <a:chExt cx="123840" cy="356760"/>
              </a:xfrm>
            </p:grpSpPr>
            <p:sp>
              <p:nvSpPr>
                <p:cNvPr id="1483" name=""/>
                <p:cNvSpPr/>
                <p:nvPr/>
              </p:nvSpPr>
              <p:spPr>
                <a:xfrm flipV="1">
                  <a:off x="3735360" y="270144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V="1">
                  <a:off x="3747960" y="2665080"/>
                  <a:ext cx="18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V="1">
                  <a:off x="3747960" y="2628720"/>
                  <a:ext cx="129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V="1">
                  <a:off x="3760920" y="259092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V="1">
                  <a:off x="3773520" y="255420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V="1">
                  <a:off x="3786120" y="252900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V="1">
                  <a:off x="3797280" y="249228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V="1">
                  <a:off x="3809880" y="2467080"/>
                  <a:ext cx="129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V="1">
                  <a:off x="3822840" y="24433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V="1">
                  <a:off x="3835440" y="241740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V="1">
                  <a:off x="3848040" y="239400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4" name=""/>
              <p:cNvGrpSpPr/>
              <p:nvPr/>
            </p:nvGrpSpPr>
            <p:grpSpPr>
              <a:xfrm>
                <a:off x="6283440" y="2913120"/>
                <a:ext cx="1385640" cy="2622600"/>
                <a:chOff x="6283440" y="2913120"/>
                <a:chExt cx="1385640" cy="262260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6283440" y="291312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6296040" y="29494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6308640" y="299880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6321600" y="30607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6334200" y="311004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6345360" y="3159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6357960" y="322092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6370560" y="3271680"/>
                  <a:ext cx="12600" cy="6048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6383160" y="3332160"/>
                  <a:ext cx="1116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394320" y="33829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407280" y="3444840"/>
                  <a:ext cx="12600" cy="6048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6419880" y="350532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6432480" y="3567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6445080" y="362916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6456240" y="36781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6469200" y="3740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6481800" y="3801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6494400" y="38638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6507000" y="39258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6518160" y="39877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6531120" y="40496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6543720" y="41115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6556320" y="41734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6568920" y="423540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6580080" y="429732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6593040" y="43466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6605640" y="44085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6618240" y="447048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6629400" y="45194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6642000" y="45813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6654960" y="463068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6667560" y="46926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6680160" y="474192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6691320" y="479124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703920" y="484020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6716880" y="489096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729480" y="4940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6742080" y="4989600"/>
                  <a:ext cx="1116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6753240" y="503856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765840" y="5075280"/>
                  <a:ext cx="1296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6778800" y="5126040"/>
                  <a:ext cx="144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6778800" y="516240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791400" y="519912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6804000" y="523728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815160" y="527364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827760" y="529920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840360" y="5335560"/>
                  <a:ext cx="1296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6853320" y="536112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6865920" y="538488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87708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889680" y="543384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902280" y="545940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915240" y="5472000"/>
                  <a:ext cx="1116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926400" y="5483160"/>
                  <a:ext cx="12600" cy="25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6939000" y="5508720"/>
                  <a:ext cx="12600" cy="144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6951600" y="550872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964200" y="5521320"/>
                  <a:ext cx="129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6977160" y="5533920"/>
                  <a:ext cx="1116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69883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70009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013520" y="5533920"/>
                  <a:ext cx="1260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026120" y="5533920"/>
                  <a:ext cx="12960" cy="18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V="1">
                  <a:off x="7039080" y="5520960"/>
                  <a:ext cx="1116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7050240" y="550836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V="1">
                  <a:off x="7062840" y="549576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V="1">
                  <a:off x="7075440" y="5482800"/>
                  <a:ext cx="12600" cy="126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V="1">
                  <a:off x="7088040" y="5471640"/>
                  <a:ext cx="12960" cy="11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V="1">
                  <a:off x="7101000" y="544680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V="1">
                  <a:off x="7112160" y="5433840"/>
                  <a:ext cx="12600" cy="12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V="1">
                  <a:off x="7124760" y="541008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7137360" y="5384880"/>
                  <a:ext cx="1260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7149960" y="5361120"/>
                  <a:ext cx="1116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V="1">
                  <a:off x="7161120" y="5322960"/>
                  <a:ext cx="1296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V="1">
                  <a:off x="7174080" y="5299200"/>
                  <a:ext cx="12600" cy="23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V="1">
                  <a:off x="7186680" y="526104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V="1">
                  <a:off x="7199280" y="5224320"/>
                  <a:ext cx="12600" cy="367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V="1">
                  <a:off x="7211880" y="5199120"/>
                  <a:ext cx="11160" cy="2520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V="1">
                  <a:off x="7223040" y="514944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V="1">
                  <a:off x="7236000" y="5113080"/>
                  <a:ext cx="1260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V="1">
                  <a:off x="7248600" y="5075280"/>
                  <a:ext cx="12600" cy="381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V="1">
                  <a:off x="7261200" y="502560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V="1">
                  <a:off x="7273800" y="4989240"/>
                  <a:ext cx="11160" cy="363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V="1">
                  <a:off x="7284960" y="493992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V="1">
                  <a:off x="7297560" y="489060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V="1">
                  <a:off x="7310520" y="483984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V="1">
                  <a:off x="7323120" y="4791240"/>
                  <a:ext cx="12600" cy="489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V="1">
                  <a:off x="7335720" y="474156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V="1">
                  <a:off x="7346880" y="4680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V="1">
                  <a:off x="7359480" y="463032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V="1">
                  <a:off x="7372440" y="45687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V="1">
                  <a:off x="7385040" y="4519080"/>
                  <a:ext cx="144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V="1">
                  <a:off x="7385040" y="4457520"/>
                  <a:ext cx="11160" cy="615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V="1">
                  <a:off x="7396200" y="4395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V="1">
                  <a:off x="7408800" y="4346280"/>
                  <a:ext cx="1260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V="1">
                  <a:off x="7421400" y="42847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V="1">
                  <a:off x="7434360" y="42228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V="1">
                  <a:off x="7446960" y="41608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V="1">
                  <a:off x="7458120" y="4098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V="1">
                  <a:off x="7470720" y="4037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7483320" y="39751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V="1">
                  <a:off x="7496280" y="39132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V="1">
                  <a:off x="7508880" y="386352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V="1">
                  <a:off x="7520040" y="38019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V="1">
                  <a:off x="7532640" y="37400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V="1">
                  <a:off x="7545240" y="3678120"/>
                  <a:ext cx="129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V="1">
                  <a:off x="7558200" y="3617640"/>
                  <a:ext cx="12600" cy="601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V="1">
                  <a:off x="7570800" y="3556080"/>
                  <a:ext cx="1116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V="1">
                  <a:off x="7581960" y="34941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V="1">
                  <a:off x="7594560" y="343224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7607160" y="3382560"/>
                  <a:ext cx="129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V="1">
                  <a:off x="7620120" y="332100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V="1">
                  <a:off x="7632720" y="3271320"/>
                  <a:ext cx="11160" cy="493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V="1">
                  <a:off x="7643880" y="3209760"/>
                  <a:ext cx="12600" cy="6192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V="1">
                  <a:off x="7656480" y="3158640"/>
                  <a:ext cx="12600" cy="50760"/>
                </a:xfrm>
                <a:prstGeom prst="line">
                  <a:avLst/>
                </a:prstGeom>
                <a:ln w="36360">
                  <a:solidFill>
                    <a:srgbClr val="99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has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1620720" y="2293560"/>
            <a:ext cx="6048360" cy="3242160"/>
            <a:chOff x="1620720" y="2293560"/>
            <a:chExt cx="6048360" cy="3242160"/>
          </a:xfrm>
        </p:grpSpPr>
        <p:grpSp>
          <p:nvGrpSpPr>
            <p:cNvPr id="1611" name=""/>
            <p:cNvGrpSpPr/>
            <p:nvPr/>
          </p:nvGrpSpPr>
          <p:grpSpPr>
            <a:xfrm>
              <a:off x="7483320" y="2998800"/>
              <a:ext cx="185760" cy="853920"/>
              <a:chOff x="7483320" y="2998800"/>
              <a:chExt cx="185760" cy="853920"/>
            </a:xfrm>
          </p:grpSpPr>
          <p:sp>
            <p:nvSpPr>
              <p:cNvPr id="1612" name=""/>
              <p:cNvSpPr/>
              <p:nvPr/>
            </p:nvSpPr>
            <p:spPr>
              <a:xfrm>
                <a:off x="7483320" y="29988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496280" y="304812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508880" y="309888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520040" y="31478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532640" y="32097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545240" y="32590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558200" y="332100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570800" y="337032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581960" y="34322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594560" y="3494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07160" y="355608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20120" y="36050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632720" y="36669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43880" y="37288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56480" y="37908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7" name=""/>
            <p:cNvGrpSpPr/>
            <p:nvPr/>
          </p:nvGrpSpPr>
          <p:grpSpPr>
            <a:xfrm>
              <a:off x="1620720" y="3876840"/>
              <a:ext cx="1014480" cy="1658880"/>
              <a:chOff x="1620720" y="3876840"/>
              <a:chExt cx="1014480" cy="1658880"/>
            </a:xfrm>
          </p:grpSpPr>
          <p:sp>
            <p:nvSpPr>
              <p:cNvPr id="1628" name=""/>
              <p:cNvSpPr/>
              <p:nvPr/>
            </p:nvSpPr>
            <p:spPr>
              <a:xfrm>
                <a:off x="1620720" y="39132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33680" y="39751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46280" y="40370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1658880" y="40989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1670040" y="41608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82640" y="42228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95600" y="42721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708200" y="43340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720800" y="43959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731960" y="445788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744560" y="450684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757520" y="45687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770120" y="46180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782720" y="46800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793880" y="472932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806480" y="478008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819440" y="48290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832040" y="48783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844640" y="492768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855800" y="49766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868400" y="502596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881360" y="50641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893960" y="5113440"/>
                <a:ext cx="1116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905120" y="514980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917720" y="518796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930320" y="5224320"/>
                <a:ext cx="18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930320" y="526104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943280" y="529920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955880" y="5322960"/>
                <a:ext cx="111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967040" y="536112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979640" y="53848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992240" y="541008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004840" y="5433840"/>
                <a:ext cx="129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017800" y="5446800"/>
                <a:ext cx="1116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028960" y="5472000"/>
                <a:ext cx="1260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041560" y="548316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054160" y="549576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066760" y="550872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079720" y="552132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09088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10348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211608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128680" y="5533920"/>
                <a:ext cx="129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141640" y="5533920"/>
                <a:ext cx="111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V="1">
                <a:off x="2152800" y="552096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165400" y="55213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V="1">
                <a:off x="2178000" y="550836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V="1">
                <a:off x="2190600" y="5495760"/>
                <a:ext cx="111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2201760" y="547200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V="1">
                <a:off x="2214720" y="545904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2227320" y="543348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V="1">
                <a:off x="2239920" y="541008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2252520" y="5384880"/>
                <a:ext cx="1116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V="1">
                <a:off x="2263680" y="536112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2276640" y="533520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V="1">
                <a:off x="2289240" y="531036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2301840" y="527364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V="1">
                <a:off x="2314440" y="5236920"/>
                <a:ext cx="1116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V="1">
                <a:off x="2325600" y="51991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V="1">
                <a:off x="2338560" y="516240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V="1">
                <a:off x="2351160" y="51256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V="1">
                <a:off x="2363760" y="508788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V="1">
                <a:off x="2376360" y="50382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V="1">
                <a:off x="2387520" y="498960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2400480" y="495288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V="1">
                <a:off x="2413080" y="490176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2425680" y="485316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436840" y="48034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2449440" y="47541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2462040" y="46926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2475000" y="46429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V="1">
                <a:off x="2487600" y="45813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2498760" y="453240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V="1">
                <a:off x="2511360" y="44704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523960" y="44208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V="1">
                <a:off x="2536920" y="4359240"/>
                <a:ext cx="144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2536920" y="42973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2549520" y="423540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2560680" y="41734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V="1">
                <a:off x="2573280" y="41115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V="1">
                <a:off x="2585880" y="406188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2598840" y="4000320"/>
                <a:ext cx="12600" cy="61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V="1">
                <a:off x="2611440" y="39387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2622600" y="38768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2635200" y="2293560"/>
              <a:ext cx="2424240" cy="3242160"/>
              <a:chOff x="2635200" y="2293560"/>
              <a:chExt cx="2424240" cy="3242160"/>
            </a:xfrm>
          </p:grpSpPr>
          <p:sp>
            <p:nvSpPr>
              <p:cNvPr id="1713" name=""/>
              <p:cNvSpPr/>
              <p:nvPr/>
            </p:nvSpPr>
            <p:spPr>
              <a:xfrm flipV="1">
                <a:off x="2635200" y="38149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V="1">
                <a:off x="2647800" y="37530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2660760" y="36910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2673360" y="36291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V="1">
                <a:off x="2684520" y="35672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V="1">
                <a:off x="2697120" y="35053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V="1">
                <a:off x="2709720" y="345564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V="1">
                <a:off x="2722680" y="339408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2733840" y="3332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V="1">
                <a:off x="2746440" y="32824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V="1">
                <a:off x="2759040" y="32209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V="1">
                <a:off x="2771640" y="317196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V="1">
                <a:off x="2784600" y="31100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V="1">
                <a:off x="2795760" y="30603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V="1">
                <a:off x="2808360" y="30110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V="1">
                <a:off x="2820960" y="296244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V="1">
                <a:off x="2833560" y="291276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V="1">
                <a:off x="2846520" y="286344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V="1">
                <a:off x="2857680" y="281268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V="1">
                <a:off x="2870280" y="277632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V="1">
                <a:off x="2882880" y="272700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V="1">
                <a:off x="2895480" y="2690640"/>
                <a:ext cx="1296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V="1">
                <a:off x="2908440" y="2652480"/>
                <a:ext cx="1080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2919240" y="2616120"/>
                <a:ext cx="1296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V="1">
                <a:off x="2932200" y="257796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V="1">
                <a:off x="2944800" y="254124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V="1">
                <a:off x="2957400" y="251784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V="1">
                <a:off x="2968560" y="247968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V="1">
                <a:off x="2981160" y="245592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>
                <a:off x="2994120" y="243000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V="1">
                <a:off x="3006720" y="240516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V="1">
                <a:off x="3019320" y="238140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3030480" y="236844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V="1">
                <a:off x="3043080" y="2343240"/>
                <a:ext cx="1296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3056040" y="2331720"/>
                <a:ext cx="1260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V="1">
                <a:off x="3068640" y="23191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3081240" y="2306520"/>
                <a:ext cx="111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092400" y="23065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3105000" y="229356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11796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13056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143160" y="2293920"/>
                <a:ext cx="18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143160" y="2293920"/>
                <a:ext cx="111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154320" y="22939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166920" y="2306520"/>
                <a:ext cx="129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179880" y="230652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92480" y="231948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205080" y="2332080"/>
                <a:ext cx="1116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216240" y="234324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28840" y="2368440"/>
                <a:ext cx="129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241800" y="238140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254400" y="2405160"/>
                <a:ext cx="1116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265560" y="243036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78160" y="245592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290760" y="247968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303720" y="251784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316320" y="2541600"/>
                <a:ext cx="1116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327480" y="257796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340080" y="261612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352680" y="2652840"/>
                <a:ext cx="1296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5640" y="269064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378240" y="272736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389400" y="27766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402000" y="281304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414600" y="28638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7560" y="29131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440160" y="296244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451320" y="301140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463920" y="30607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76520" y="311004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489480" y="3171960"/>
                <a:ext cx="108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500280" y="322092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513240" y="32828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525840" y="3332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38440" y="33940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551400" y="3456000"/>
                <a:ext cx="108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562200" y="350532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575160" y="35672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587760" y="3629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600360" y="36910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613320" y="3753000"/>
                <a:ext cx="108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24120" y="381492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637080" y="38768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649680" y="39387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662280" y="4000680"/>
                <a:ext cx="12960" cy="61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675240" y="4062240"/>
                <a:ext cx="108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686040" y="411156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699000" y="41734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711600" y="42354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724200" y="429732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735360" y="43592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747960" y="4421160"/>
                <a:ext cx="18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747960" y="44704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760920" y="453240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773520" y="45813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786120" y="464328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797280" y="46926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809880" y="475452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822840" y="48038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835440" y="485316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848040" y="4902120"/>
                <a:ext cx="1116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859200" y="495288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871800" y="498960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884760" y="50385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897360" y="508788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909960" y="5126040"/>
                <a:ext cx="1116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921120" y="516240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933720" y="51991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946680" y="52372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959280" y="527364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971880" y="5310360"/>
                <a:ext cx="1116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83040" y="533556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995640" y="536112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008600" y="53848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021200" y="541008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032360" y="543384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044960" y="545940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057560" y="547200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070520" y="549576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4083120" y="550872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094280" y="55213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106880" y="55213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119480" y="5533920"/>
                <a:ext cx="129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13244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145040" y="5533920"/>
                <a:ext cx="111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15620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16880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V="1">
                <a:off x="4181400" y="552096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4194000" y="550836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V="1">
                <a:off x="4206960" y="5495760"/>
                <a:ext cx="111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4218120" y="548280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V="1">
                <a:off x="4230720" y="5471640"/>
                <a:ext cx="1260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4243320" y="544680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4255920" y="5433840"/>
                <a:ext cx="111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4267080" y="541008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280040" y="53848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4292640" y="536112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4305240" y="532296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4317840" y="529920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V="1">
                <a:off x="4329000" y="526104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V="1">
                <a:off x="4341960" y="522432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4354560" y="5187600"/>
                <a:ext cx="144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4354560" y="514980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367160" y="51130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4379760" y="506376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4390920" y="502596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4403880" y="49762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4416480" y="492768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V="1">
                <a:off x="4429080" y="487800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4441680" y="482868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4452840" y="478008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V="1">
                <a:off x="4465800" y="472896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V="1">
                <a:off x="4478400" y="46796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4491000" y="46180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4503600" y="45684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4514760" y="450684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V="1">
                <a:off x="4527720" y="445788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V="1">
                <a:off x="4540320" y="43959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V="1">
                <a:off x="4552920" y="43340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4564080" y="42721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576680" y="422244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V="1">
                <a:off x="4589640" y="416088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4602240" y="40989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V="1">
                <a:off x="4614840" y="40370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4626000" y="39751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4638600" y="39132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V="1">
                <a:off x="4651200" y="3852720"/>
                <a:ext cx="12960" cy="6048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4664160" y="37908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4676760" y="372888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4687920" y="36669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4700520" y="36050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V="1">
                <a:off x="4713120" y="355608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4726080" y="3494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V="1">
                <a:off x="4738680" y="34322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V="1">
                <a:off x="4749840" y="33703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4762440" y="33206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4775040" y="32590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4788000" y="32094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4799160" y="31478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4811760" y="309888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4824360" y="304776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4836960" y="299844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4849920" y="294912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V="1">
                <a:off x="4861080" y="290052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4873680" y="28508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V="1">
                <a:off x="4886280" y="28015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V="1">
                <a:off x="4898880" y="27637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4911840" y="271476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4923000" y="267804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4935600" y="263988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V="1">
                <a:off x="4948200" y="260316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4960800" y="2566800"/>
                <a:ext cx="18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V="1">
                <a:off x="4960800" y="252900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4973760" y="250524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V="1">
                <a:off x="4984920" y="246708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4997520" y="244332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V="1">
                <a:off x="5010120" y="241740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V="1">
                <a:off x="5022720" y="239400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V="1">
                <a:off x="5035680" y="238104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V="1">
                <a:off x="5046840" y="235548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5059440" y="2293560"/>
              <a:ext cx="2423880" cy="3242160"/>
              <a:chOff x="5059440" y="2293560"/>
              <a:chExt cx="2423880" cy="3242160"/>
            </a:xfrm>
          </p:grpSpPr>
          <p:sp>
            <p:nvSpPr>
              <p:cNvPr id="1914" name=""/>
              <p:cNvSpPr/>
              <p:nvPr/>
            </p:nvSpPr>
            <p:spPr>
              <a:xfrm flipV="1">
                <a:off x="5059440" y="234288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5072040" y="2331720"/>
                <a:ext cx="1260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V="1">
                <a:off x="5084640" y="231912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5095800" y="230652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5108400" y="229356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12136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13396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146560" y="2293920"/>
                <a:ext cx="111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15772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170320" y="2293920"/>
                <a:ext cx="129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183280" y="22939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195880" y="230652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208480" y="2319480"/>
                <a:ext cx="111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219640" y="231948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232240" y="233208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245200" y="235584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257800" y="236844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270400" y="239400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281560" y="241776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294160" y="244332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07120" y="24670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319720" y="2492280"/>
                <a:ext cx="1116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330880" y="251784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343480" y="255420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356080" y="25909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369040" y="26290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381640" y="2665440"/>
                <a:ext cx="1116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392800" y="270180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405400" y="27399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418000" y="278928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430960" y="283860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443560" y="287496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454720" y="292428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467320" y="29750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479920" y="302436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492880" y="308628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505480" y="313524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516640" y="31845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529240" y="32464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541840" y="32958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554800" y="3357720"/>
                <a:ext cx="108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565600" y="3406680"/>
                <a:ext cx="18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565600" y="34686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578560" y="35305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591160" y="35924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603760" y="365436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616720" y="3716280"/>
                <a:ext cx="108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627520" y="37782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640480" y="38275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653080" y="38894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665680" y="395136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678640" y="4013280"/>
                <a:ext cx="108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689440" y="40752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702400" y="41371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715000" y="4199040"/>
                <a:ext cx="12600" cy="60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727600" y="425916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740560" y="4321080"/>
                <a:ext cx="108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751360" y="437184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764320" y="4433760"/>
                <a:ext cx="12600" cy="6048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776920" y="449424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789520" y="454500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02480" y="4606920"/>
                <a:ext cx="108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13280" y="465624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826240" y="471816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838840" y="47671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851440" y="481644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862600" y="48657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875200" y="491508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888160" y="496404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900760" y="501336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913360" y="505152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924520" y="510048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5937120" y="513720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950080" y="517536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962680" y="521172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975280" y="5248440"/>
                <a:ext cx="1116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986440" y="5286240"/>
                <a:ext cx="12600" cy="24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999040" y="5310360"/>
                <a:ext cx="1296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6012000" y="5348160"/>
                <a:ext cx="12600" cy="24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6024600" y="53722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037200" y="5397480"/>
                <a:ext cx="111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6048360" y="542124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6060960" y="544680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073920" y="545940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086520" y="548316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6097680" y="549576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6110280" y="55087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122880" y="5521320"/>
                <a:ext cx="129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6135840" y="552132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6148440" y="5533920"/>
                <a:ext cx="1116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615960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6172200" y="5533920"/>
                <a:ext cx="144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6172200" y="55339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6184800" y="5520960"/>
                <a:ext cx="129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197760" y="55213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6210360" y="550836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221520" y="549576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6234120" y="548280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246720" y="545940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6259680" y="544644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6272280" y="5420880"/>
                <a:ext cx="1116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V="1">
                <a:off x="6283440" y="539748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V="1">
                <a:off x="6296040" y="53722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6308640" y="5347800"/>
                <a:ext cx="12960" cy="24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V="1">
                <a:off x="6321600" y="5310000"/>
                <a:ext cx="1260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6334200" y="5285880"/>
                <a:ext cx="11160" cy="24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V="1">
                <a:off x="6345360" y="5248080"/>
                <a:ext cx="12600" cy="37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6357960" y="521172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V="1">
                <a:off x="6370560" y="517500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6383160" y="5137200"/>
                <a:ext cx="111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394320" y="5100480"/>
                <a:ext cx="1296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6407280" y="505152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6419880" y="501336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6432480" y="49636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6445080" y="4915080"/>
                <a:ext cx="111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6456240" y="486540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6469200" y="48160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V="1">
                <a:off x="6481800" y="476676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6494400" y="471816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6507000" y="46562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6518160" y="460656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6531120" y="45450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V="1">
                <a:off x="6543720" y="4493880"/>
                <a:ext cx="1260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V="1">
                <a:off x="6556320" y="4433760"/>
                <a:ext cx="12600" cy="6048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V="1">
                <a:off x="6568920" y="437184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6580080" y="4320720"/>
                <a:ext cx="1296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6593040" y="42591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V="1">
                <a:off x="6605640" y="4198680"/>
                <a:ext cx="12600" cy="601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V="1">
                <a:off x="6618240" y="413712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V="1">
                <a:off x="6629400" y="40752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V="1">
                <a:off x="6642000" y="40132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V="1">
                <a:off x="6654960" y="39513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V="1">
                <a:off x="6667560" y="38894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V="1">
                <a:off x="6680160" y="382752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6691320" y="37656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6703920" y="371592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V="1">
                <a:off x="6716880" y="365436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6729480" y="359244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6742080" y="353052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6753240" y="34686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V="1">
                <a:off x="6765840" y="3406680"/>
                <a:ext cx="129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V="1">
                <a:off x="6778800" y="3357720"/>
                <a:ext cx="144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V="1">
                <a:off x="6778800" y="329580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6791400" y="324612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6804000" y="3184560"/>
                <a:ext cx="1116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6815160" y="31348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6827760" y="3073320"/>
                <a:ext cx="12600" cy="619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6840360" y="3024360"/>
                <a:ext cx="1296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V="1">
                <a:off x="6853320" y="29746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V="1">
                <a:off x="6865920" y="2923920"/>
                <a:ext cx="11160" cy="50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877080" y="287460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V="1">
                <a:off x="6889680" y="283824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6902280" y="2788920"/>
                <a:ext cx="129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6915240" y="27396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926400" y="2701800"/>
                <a:ext cx="1260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6939000" y="26650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951600" y="262872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V="1">
                <a:off x="6964200" y="25909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977160" y="2554200"/>
                <a:ext cx="1116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V="1">
                <a:off x="6988320" y="251748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7000920" y="249192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7013520" y="2467080"/>
                <a:ext cx="12600" cy="252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7026120" y="244332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7039080" y="2417400"/>
                <a:ext cx="1116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7050240" y="239400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7062840" y="236808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7075440" y="235548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7088040" y="233208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7101000" y="231912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7112160" y="2306520"/>
                <a:ext cx="1260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7124760" y="2306520"/>
                <a:ext cx="12600" cy="18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7137360" y="229356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7149960" y="2293920"/>
                <a:ext cx="111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7161120" y="2293920"/>
                <a:ext cx="1296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717408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718668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7199280" y="2293920"/>
                <a:ext cx="12600" cy="144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7211880" y="2293920"/>
                <a:ext cx="1116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7223040" y="2306520"/>
                <a:ext cx="12960" cy="12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7236000" y="231948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7248600" y="2332080"/>
                <a:ext cx="12600" cy="11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7261200" y="234324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7273800" y="2355840"/>
                <a:ext cx="1116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284960" y="2381400"/>
                <a:ext cx="12600" cy="1260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297560" y="2394000"/>
                <a:ext cx="1296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7310520" y="2417760"/>
                <a:ext cx="12600" cy="255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7323120" y="244332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7335720" y="2467080"/>
                <a:ext cx="111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7346880" y="2505240"/>
                <a:ext cx="12600" cy="237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7359480" y="252900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7372440" y="2567160"/>
                <a:ext cx="1260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7385040" y="2603520"/>
                <a:ext cx="1440" cy="363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7385040" y="2639880"/>
                <a:ext cx="111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7396200" y="2678040"/>
                <a:ext cx="12600" cy="367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7408800" y="271476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7421400" y="2763720"/>
                <a:ext cx="12960" cy="381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7434360" y="28018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7446960" y="2851200"/>
                <a:ext cx="1116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7458120" y="2900520"/>
                <a:ext cx="12600" cy="4896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7470720" y="2949480"/>
                <a:ext cx="12600" cy="49320"/>
              </a:xfrm>
              <a:prstGeom prst="line">
                <a:avLst/>
              </a:prstGeom>
              <a:ln w="36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mplitude, period, frequency, and radian frequency of this sinuso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531D-F070-42FF-A918-D0701F892E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Phasor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hasor is a complex number that represents the magnitude and phase of a sinuso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7" name=""/>
              <p:cNvSpPr txBox="1"/>
              <p:nvPr/>
            </p:nvSpPr>
            <p:spPr>
              <a:xfrm>
                <a:off x="2057400" y="2814480"/>
                <a:ext cx="2860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8" name=""/>
              <p:cNvSpPr txBox="1"/>
              <p:nvPr/>
            </p:nvSpPr>
            <p:spPr>
              <a:xfrm>
                <a:off x="2381400" y="4452840"/>
                <a:ext cx="2251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9" name=""/>
          <p:cNvSpPr/>
          <p:nvPr/>
        </p:nvSpPr>
        <p:spPr>
          <a:xfrm>
            <a:off x="3219480" y="3691080"/>
            <a:ext cx="609480" cy="609480"/>
          </a:xfrm>
          <a:prstGeom prst="upDownArrow">
            <a:avLst>
              <a:gd name="adj1" fmla="val 50000"/>
              <a:gd name="adj2" fmla="val 199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5121000" y="2881440"/>
            <a:ext cx="229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847400" y="4506840"/>
            <a:ext cx="31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E9659-3216-4E14-B2F3-E1C7E6BCE1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First Order Circuits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58720" y="4759200"/>
          <a:ext cx="330516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759200"/>
                    <a:ext cx="330516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8360" y="3537000"/>
            <a:ext cx="403884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L around the loo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) +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) = 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643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133812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96"/>
                </a:moveTo>
                <a:lnTo>
                  <a:pt x="48" y="96"/>
                </a:lnTo>
                <a:lnTo>
                  <a:pt x="96" y="0"/>
                </a:lnTo>
                <a:lnTo>
                  <a:pt x="192" y="192"/>
                </a:lnTo>
                <a:lnTo>
                  <a:pt x="288" y="0"/>
                </a:lnTo>
                <a:lnTo>
                  <a:pt x="384" y="192"/>
                </a:lnTo>
                <a:lnTo>
                  <a:pt x="480" y="0"/>
                </a:lnTo>
                <a:lnTo>
                  <a:pt x="528" y="96"/>
                </a:lnTo>
                <a:lnTo>
                  <a:pt x="57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71800" y="1490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9479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1523880" y="1490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14907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1871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523880" y="2862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248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14907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24051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2176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17656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33195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00400" y="2328840"/>
            <a:ext cx="457200" cy="228240"/>
            <a:chOff x="3200400" y="2328840"/>
            <a:chExt cx="457200" cy="228240"/>
          </a:xfrm>
        </p:grpSpPr>
        <p:sp>
          <p:nvSpPr>
            <p:cNvPr id="127" name=""/>
            <p:cNvSpPr/>
            <p:nvPr/>
          </p:nvSpPr>
          <p:spPr>
            <a:xfrm>
              <a:off x="3200400" y="23288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00760" y="240480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200400" y="240480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05320" y="1905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40240" y="2354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21002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0335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033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8809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257720" y="1447920"/>
            <a:ext cx="4648320" cy="1831320"/>
            <a:chOff x="4257720" y="1447920"/>
            <a:chExt cx="4648320" cy="1831320"/>
          </a:xfrm>
        </p:grpSpPr>
        <p:sp>
          <p:nvSpPr>
            <p:cNvPr id="137" name=""/>
            <p:cNvSpPr/>
            <p:nvPr/>
          </p:nvSpPr>
          <p:spPr>
            <a:xfrm>
              <a:off x="7991640" y="2057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7720" y="2133720"/>
              <a:ext cx="106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(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0560" y="20574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6200000">
              <a:off x="6467400" y="2209680"/>
              <a:ext cx="914400" cy="304920"/>
            </a:xfrm>
            <a:custGeom>
              <a:avLst/>
              <a:gdLst/>
              <a:ahLst/>
              <a:rect l="l" t="t" r="r" b="b"/>
              <a:pathLst>
                <a:path w="576" h="192">
                  <a:moveTo>
                    <a:pt x="0" y="96"/>
                  </a:moveTo>
                  <a:lnTo>
                    <a:pt x="48" y="96"/>
                  </a:lnTo>
                  <a:lnTo>
                    <a:pt x="96" y="0"/>
                  </a:lnTo>
                  <a:lnTo>
                    <a:pt x="192" y="192"/>
                  </a:lnTo>
                  <a:lnTo>
                    <a:pt x="288" y="0"/>
                  </a:lnTo>
                  <a:lnTo>
                    <a:pt x="384" y="192"/>
                  </a:lnTo>
                  <a:lnTo>
                    <a:pt x="480" y="0"/>
                  </a:lnTo>
                  <a:lnTo>
                    <a:pt x="528" y="96"/>
                  </a:lnTo>
                  <a:lnTo>
                    <a:pt x="576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24760" y="190512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81960" y="14479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781960" y="144792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86720" y="1447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86720" y="297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0040" y="2057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81960" y="327672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3936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15320" y="28195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466760" y="1828800"/>
              <a:ext cx="452880" cy="1138680"/>
              <a:chOff x="7466760" y="1828800"/>
              <a:chExt cx="452880" cy="113868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7466760" y="1828800"/>
                <a:ext cx="448200" cy="380520"/>
                <a:chOff x="7466760" y="1828800"/>
                <a:chExt cx="448200" cy="380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7466760" y="1828800"/>
                  <a:ext cx="44568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468560" y="2018880"/>
                  <a:ext cx="4464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471440" y="2209680"/>
                <a:ext cx="448200" cy="378360"/>
                <a:chOff x="7471440" y="2209680"/>
                <a:chExt cx="448200" cy="3783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471440" y="220968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473240" y="239868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7471440" y="2589120"/>
                <a:ext cx="448200" cy="378360"/>
                <a:chOff x="7471440" y="2589120"/>
                <a:chExt cx="448200" cy="3783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471440" y="2589120"/>
                  <a:ext cx="44568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473240" y="2778120"/>
                  <a:ext cx="446400" cy="189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4588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45883"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0" name=""/>
            <p:cNvSpPr/>
            <p:nvPr/>
          </p:nvSpPr>
          <p:spPr>
            <a:xfrm flipV="1">
              <a:off x="5781960" y="2057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24960" y="14479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24960" y="28195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062680" y="4032360"/>
                <a:ext cx="33177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4892760" y="3598920"/>
            <a:ext cx="40384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CL at the n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119560" y="5046840"/>
          <a:ext cx="2908440" cy="77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9560" y="5046840"/>
                    <a:ext cx="290844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7586640" y="1506600"/>
            <a:ext cx="0" cy="42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19560" y="1641600"/>
            <a:ext cx="0" cy="42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219320"/>
            <a:ext cx="63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58400" y="965160"/>
            <a:ext cx="65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810D7-66D4-481F-BAA8-31DC9E1C53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Complete Solu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44160"/>
            <a:ext cx="82296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s and currents in a 1st order circuit satisfy a differential equation of th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cing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lete solution is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m of particular 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ced response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d complementary 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atural respon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 solution satisfies the forcing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y solution is used to satisfy the initial condi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conditions determine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819520" y="1690560"/>
          <a:ext cx="271440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90560"/>
                    <a:ext cx="27144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300560" y="4924440"/>
          <a:ext cx="2473200" cy="139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00560" y="4924440"/>
                    <a:ext cx="2473200" cy="13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727200" y="5397480"/>
          <a:ext cx="282888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5397480"/>
                    <a:ext cx="282888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939000" y="550548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ogeneous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890800" y="3471840"/>
          <a:ext cx="2448000" cy="46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0800" y="3471840"/>
                    <a:ext cx="24480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D3147-09DE-4399-8E6F-32A1EE387D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Time Constant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lementary solution for any 1st order circu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RC circui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RL circuit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/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03440" y="1955880"/>
          <a:ext cx="255924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3440" y="1955880"/>
                    <a:ext cx="255924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1D21-C69D-4FDA-9F7D-5B2A19D8B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What Does </a:t>
            </a: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X</a:t>
            </a:r>
            <a:r>
              <a:rPr b="1" i="1" lang="en-US" sz="3600" spc="-1" strike="noStrike" baseline="-25000">
                <a:solidFill>
                  <a:srgbClr val="00007d"/>
                </a:solidFill>
                <a:latin typeface="Arial"/>
              </a:rPr>
              <a:t>c</a:t>
            </a: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(t)</a:t>
            </a: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 Look Like?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538960" cy="4111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978440" y="15764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105000" y="4095720"/>
            <a:ext cx="0" cy="1238400"/>
          </a:xfrm>
          <a:prstGeom prst="line">
            <a:avLst/>
          </a:prstGeom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2133360" y="4095720"/>
            <a:ext cx="990360" cy="0"/>
          </a:xfrm>
          <a:prstGeom prst="line">
            <a:avLst/>
          </a:prstGeom>
          <a:ln w="1908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1905120"/>
            <a:ext cx="971280" cy="34383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771640" y="1689120"/>
          <a:ext cx="183852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71640" y="1689120"/>
                    <a:ext cx="18385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894120" y="2457360"/>
            <a:ext cx="477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amount of time necessary for an exponential to decay to 36.7% of its initi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initial slope of an exponential with an initial value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5FEC-1FDF-4F9C-8226-8C8B9C9831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The Particular Solution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7964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ticular solu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usually a weighted sum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its first deriv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stant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nusoidal, 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inusoi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9B5A2-6408-4302-A277-523D6279CD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4308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436860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V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70680" y="70344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5k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00800" y="1541520"/>
            <a:ext cx="914400" cy="30492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96"/>
                </a:moveTo>
                <a:lnTo>
                  <a:pt x="48" y="96"/>
                </a:lnTo>
                <a:lnTo>
                  <a:pt x="96" y="0"/>
                </a:lnTo>
                <a:lnTo>
                  <a:pt x="192" y="192"/>
                </a:lnTo>
                <a:lnTo>
                  <a:pt x="288" y="0"/>
                </a:lnTo>
                <a:lnTo>
                  <a:pt x="384" y="192"/>
                </a:lnTo>
                <a:lnTo>
                  <a:pt x="480" y="0"/>
                </a:lnTo>
                <a:lnTo>
                  <a:pt x="528" y="96"/>
                </a:lnTo>
                <a:lnTo>
                  <a:pt x="57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15200" y="1693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13000" y="21510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3670200" y="1693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70200" y="1693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65640" y="2075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670200" y="3065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65640" y="2684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772400" y="1693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2608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58080" y="2341440"/>
            <a:ext cx="14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1u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70200" y="3522240"/>
            <a:ext cx="41022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543800" y="2532240"/>
            <a:ext cx="457200" cy="228240"/>
            <a:chOff x="7543800" y="2532240"/>
            <a:chExt cx="457200" cy="228240"/>
          </a:xfrm>
        </p:grpSpPr>
        <p:sp>
          <p:nvSpPr>
            <p:cNvPr id="213" name=""/>
            <p:cNvSpPr/>
            <p:nvPr/>
          </p:nvSpPr>
          <p:spPr>
            <a:xfrm>
              <a:off x="7543800" y="2532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44160" y="260820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543800" y="260820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7848720" y="2108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883640" y="2557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077320" y="230364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1236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2920" y="1236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108432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62960" y="1844640"/>
            <a:ext cx="0" cy="423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422360"/>
            <a:ext cx="63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203720" y="13208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 rot="19618800">
            <a:off x="4053240" y="997200"/>
            <a:ext cx="608760" cy="101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456" y="1055"/>
                </a:moveTo>
                <a:arcTo wR="10800" hR="10800" stAng="-3867668" swAng="3867668"/>
                <a:lnTo>
                  <a:pt x="10800" y="10800"/>
                </a:lnTo>
                <a:close/>
              </a:path>
              <a:path fill="none" w="21600" h="21600">
                <a:moveTo>
                  <a:pt x="15456" y="1055"/>
                </a:moveTo>
                <a:arcTo wR="10800" hR="10800" stAng="-3867668" swAng="386766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16600" y="1693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30800" y="92700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3840" y="24433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sin(200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E40, Fall 2004     Prof. Whi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EEE0B-4EF9-4A27-BF0A-ED2604A5A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5:21:45Z</dcterms:created>
  <dc:creator>chrisc</dc:creator>
  <dc:description/>
  <dc:language>en-US</dc:language>
  <cp:lastModifiedBy>EECS</cp:lastModifiedBy>
  <cp:lastPrinted>2000-01-18T23:43:12Z</cp:lastPrinted>
  <dcterms:modified xsi:type="dcterms:W3CDTF">2006-07-05T00:09:54Z</dcterms:modified>
  <cp:revision>315</cp:revision>
  <dc:subject/>
  <dc:title>EECS 40</dc:title>
</cp:coreProperties>
</file>